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59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273-6A89-41BB-A92D-EF9DE9E6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9DA-F892-4A99-8521-38DD0971D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F784-2999-423D-A5DB-D7CEFC33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choose the way we want to adjust: mult. Or add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dle soft constraints that need not be satisfied exacle but will determine adjusted values to some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good connection with existing survey practices: calibration, complex sampling and macro inte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king the results more applicable and practible right now , but st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BB3-5B7E-43E9-99D0-B8943723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727-7CCA-435A-B278-FD166829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ll know that nowadays, NSI’s want to use and reuse available data as much a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ntegration is clearly important in important for using combinations of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previous essnet on data integration and in WP1 which describes the current stota a number of methodological issues for further devlopment were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WP such developments have taken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has resulted in a report with 7 chapt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Describing solutions to a number of problems in data integr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Some raised in WP1 and some by practical experience with data integrations projects and the problems that emerge t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Each problen and solution is illustrated with practical examples to show the possible applications, so the methodological development was very focussed on solving practical probl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5C6-826F-4951-A4C3-1A4C3726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is is about the contents of the report and the remainder of this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velopment of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ince I wull try and summarize the contens in this talk it is also the contents of the remainder of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lime on WP2 and of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ord linakage is a basic step for data integration. But If there are no error free and unique identifiers this step requires some advanced methodology to deal with possibly incorrect 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other problem is that in business statistics the unts in the data sets to be integrated can be diff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wo other chapters deals with data sets were the units not overlapping so that linkage is not possible. This is the situation for statistical mat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treated is the case were units are partially overl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third area has to do with with inconsistency between the data for the same un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a can be contradictory when they come from differen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 how to handle and correct these probel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 will nown give a short impression of w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EEF-09BA-4912-AA94-029CA965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ituation is basic for data integration. By linking units from both data sets we increase the informatio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bsence of an unique and error free unit identifire, linking is done using a number of common variables, the x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error free unit identifiers are lacking, linking is done with the common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be done deterministically by expert rules that are derived from the amount of similarity between x-values of records from both data 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kan also be done probabilisticl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umber of methods have been compared w.r.s. to the quality of the declared linka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rministic linkage based on rules comparing the key variables. Probabilistic record 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ing the probability of a correct linkage (measure of qua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ical study on linkage errors, comparing deterministic, probabilistic (Fellegi-Sunter) end clerical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wo data sets on new bor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yesian model (Liseo-Tranrcedi) Taking the estimated linkage probabilities into account i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ing the probability of a correct linkage (measure of qua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ical study on linkage errors, comparing deterministic, probabilistic (??Fellegi-Sunter) end clerical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yesian model (??Liseo-Trancedi) Taking the estimated linkage probabilities into account i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rministic linkage based on rules comparing the key variables. Probabilistic record 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2823-62C9-47F4-AD44-9F25AAB3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stical offices in a number of countries are using for part of there business stats administrative, actually tax or VAT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eans that they have to deal with different unit ty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 is pictures above: in the middle, we will see a population frame describing relations between three types of uni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al units as a base unit and admin and stat units as composite un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units and Statistical units are, however, quite different composites of the same base uni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use tax data we need to link them to statistical units because these are constructed such that they can be classified by NAC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stical units are constructed so that they can be classified according to nac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958-8825-49A9-89E1-E2010B991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You do not know how to transfer the turnove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A1B-E34C-4396-912E-DD3A9150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n important question beceause we use data integration to enrich our dataset by adding variables from an other soure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be inferred about the relation between y and z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8ED-5740-4082-BD2A-81385BFE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ing a total based on sample and registe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estimators that use information from sample(s) and register(s). Sample data + auxiliary from p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arisation method for case three estim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tstrap methods for all estimators can also be applied for other target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ulation study that illustrates the validity of this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E27-65F0-4D0C-B8B5-1870A8145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business statistics we can use accurate regsiter data on some key varia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xtremely simplified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ough for short term statistics. But for the yearly structural business statistics we may need about a hundrad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these we need a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we combine these data in a single record we may have an consistency problem because we have edit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01DA-39DF-4840-9B7B-53A8F9DA8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87CA-1BD2-43E2-83CD-3EC112874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C7CB-8821-4D6E-A4C2-E9F7A37AA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DFEF-8CF4-4AAB-97E6-0A932BB44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A79B-9E14-4C48-9B5D-A71A029CE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D382-FFB7-4615-A445-4C67ADAC6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60A9-DF95-4C32-80A3-A693AD2B1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4CA9-E0A2-4D62-8CAB-CBF4EE529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0087-06FC-4DB4-B1E3-565A6F0B1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C1D5-A371-4C31-8943-0A5ED16AB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191D-E3ED-417E-90FE-5DD55A82C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4A54-CEAF-4568-B3EB-39296F0D8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099120"/>
            <a:ext cx="9144000" cy="75888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59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l*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D56A-DB47-44BA-BE11-B01B1CEC3314}" type="slidenum"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8" descr="CBS_logo_wit_complete"/>
          <p:cNvPicPr/>
          <p:nvPr/>
        </p:nvPicPr>
        <p:blipFill>
          <a:blip r:embed="rId2"/>
          <a:stretch/>
        </p:blipFill>
        <p:spPr>
          <a:xfrm>
            <a:off x="828720" y="6207120"/>
            <a:ext cx="229536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5" descr="achtergrond_titel_nieuw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0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1" descr="CBS_logo_wit_complete"/>
          <p:cNvPicPr/>
          <p:nvPr/>
        </p:nvPicPr>
        <p:blipFill>
          <a:blip r:embed="rId3"/>
          <a:stretch/>
        </p:blipFill>
        <p:spPr>
          <a:xfrm>
            <a:off x="828720" y="6207120"/>
            <a:ext cx="229536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59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86407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95"/>
                </a:solidFill>
                <a:latin typeface="Arial"/>
              </a:rPr>
              <a:t>Development of methods</a:t>
            </a:r>
            <a:endParaRPr b="1" lang="en-US" sz="32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920" y="206028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oen Panneko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Arnout van D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720" y="54936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95"/>
                </a:solidFill>
                <a:latin typeface="Arial"/>
              </a:rPr>
              <a:t>ESSnet on Data Integr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00000" y="5373720"/>
            <a:ext cx="7488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Madrid, november 24-25, 2011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843-222D-49D4-BC3F-36412108BD46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5595"/>
                </a:solidFill>
                <a:latin typeface="Arial"/>
              </a:rPr>
              <a:t>Micro and macro consistency problems (2)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2205000"/>
            <a:ext cx="7704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ve and multiplicative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 edit constraints like ratio’s between Costs and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84360" y="1268280"/>
            <a:ext cx="828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adjustment problem is an optimisation method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handl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11280" y="3284640"/>
            <a:ext cx="820872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also applicable at macro-level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les of estimates of totals from different source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ome margins in commo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al adjustment of cell values such that common margins are equa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valent to some form of calibration weighting but more versatil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FBA-953E-47BD-A15B-3E1C20D80852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5595"/>
                </a:solidFill>
                <a:latin typeface="Arial"/>
              </a:rPr>
              <a:t>Concluding remarks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port on methodological develop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shows the problems that are encountered in the practice of data integration. As witnessed by the many practical examples in this re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delivered new or improved methods to deal with these difficulties. So that NSI’s can better profit from existent data 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good connection with existing survey practices: calibration, complex sampling and macro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still,  methodology for data integration is not as mature as some other survey method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9C74-0184-4A53-937D-7F4AF0E0A372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5595"/>
                </a:solidFill>
                <a:latin typeface="Arial"/>
              </a:rPr>
              <a:t>Purpose and results of this workpackage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al institutes needs to make optimal use of available data sources. Data integration plays a major role in this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is end, further develop and enhance methods for record linkage, statistical matching and micro-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report with 7 chap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solutions to a number of problems in data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raised in WP1 and some encountered in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ethods in each chapter are  illustrated with practical examples to show the possib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644E-8410-4084-B48E-3934DC55F375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595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4360" y="1341360"/>
            <a:ext cx="79912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view of the topics organized in three main are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 linkag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2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bability of correct linkage and inference in the presence of linkage errors. 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age error detection and correction in business statistic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erence with multiple and incomplete sour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2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al matching and inference (non overlapping sources)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2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ion with partially overlapping data sources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 and macro consistenc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and algorithms to achieve consistency in micro-dat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on the macro-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r" pos="582948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537-29FC-48D6-8DBE-AA37662FA478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5595"/>
                </a:solidFill>
                <a:latin typeface="Arial"/>
              </a:rPr>
              <a:t>Record linkage (1)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grpSp>
        <p:nvGrpSpPr>
          <p:cNvPr id="105" name="Group 50"/>
          <p:cNvGrpSpPr/>
          <p:nvPr/>
        </p:nvGrpSpPr>
        <p:grpSpPr>
          <a:xfrm>
            <a:off x="238680" y="1341360"/>
            <a:ext cx="2604600" cy="2034360"/>
            <a:chOff x="238680" y="1341360"/>
            <a:chExt cx="2604600" cy="2034360"/>
          </a:xfrm>
        </p:grpSpPr>
        <p:grpSp>
          <p:nvGrpSpPr>
            <p:cNvPr id="106" name="Group 49"/>
            <p:cNvGrpSpPr/>
            <p:nvPr/>
          </p:nvGrpSpPr>
          <p:grpSpPr>
            <a:xfrm>
              <a:off x="238680" y="1341360"/>
              <a:ext cx="2390400" cy="1655640"/>
              <a:chOff x="238680" y="1341360"/>
              <a:chExt cx="2390400" cy="1655640"/>
            </a:xfrm>
          </p:grpSpPr>
          <p:sp>
            <p:nvSpPr>
              <p:cNvPr id="107" name="Rectangle 4"/>
              <p:cNvSpPr/>
              <p:nvPr/>
            </p:nvSpPr>
            <p:spPr>
              <a:xfrm>
                <a:off x="468360" y="1774800"/>
                <a:ext cx="863640" cy="10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468360" y="1774800"/>
                <a:ext cx="216000" cy="1079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8"/>
              <p:cNvSpPr/>
              <p:nvPr/>
            </p:nvSpPr>
            <p:spPr>
              <a:xfrm>
                <a:off x="756000" y="1341360"/>
                <a:ext cx="576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765440" y="1917720"/>
                <a:ext cx="863640" cy="10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1765440" y="1917720"/>
                <a:ext cx="216000" cy="1079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3"/>
              <p:cNvSpPr/>
              <p:nvPr/>
            </p:nvSpPr>
            <p:spPr>
              <a:xfrm>
                <a:off x="2052720" y="1484280"/>
                <a:ext cx="433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468360" y="2422440"/>
                <a:ext cx="863640" cy="7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765440" y="2062080"/>
                <a:ext cx="863640" cy="73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AutoShape 16"/>
              <p:cNvCxnSpPr>
                <a:stCxn id="113" idx="1"/>
                <a:endCxn id="114" idx="1"/>
              </p:cNvCxnSpPr>
              <p:nvPr/>
            </p:nvCxnSpPr>
            <p:spPr>
              <a:xfrm flipH="1" rot="10800000">
                <a:off x="467280" y="2097720"/>
                <a:ext cx="1297800" cy="361080"/>
              </a:xfrm>
              <a:prstGeom prst="curvedConnector5">
                <a:avLst>
                  <a:gd name="adj1" fmla="val -17619"/>
                  <a:gd name="adj2" fmla="val 50000"/>
                  <a:gd name="adj3" fmla="val -17619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16" name="Text Box 17"/>
            <p:cNvSpPr/>
            <p:nvPr/>
          </p:nvSpPr>
          <p:spPr>
            <a:xfrm>
              <a:off x="395280" y="292428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        y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1692360" y="3068640"/>
              <a:ext cx="115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        z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52"/>
          <p:cNvSpPr/>
          <p:nvPr/>
        </p:nvSpPr>
        <p:spPr>
          <a:xfrm>
            <a:off x="3780000" y="1557360"/>
            <a:ext cx="482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se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va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se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va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units. Linking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539640" y="3789360"/>
            <a:ext cx="8425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istic linkage based on expert rul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stic linkage classical model of Fellegi-Sunt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yesian model of Liseo-Tancred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971640" y="5013360"/>
            <a:ext cx="64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468360" y="9079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ology for dealing with possibly incorrect linkag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468360" y="3357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approaches are compar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468360" y="5084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s for inference with linked data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539640" y="537372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the uncertainty in th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age process into account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103D-EAAE-432C-96BC-700A811B015A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5595"/>
                </a:solidFill>
                <a:latin typeface="Arial"/>
              </a:rPr>
              <a:t>Record linkage (2)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770256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rrect (missing) links in busines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72360" cy="916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2"/>
          <p:cNvSpPr/>
          <p:nvPr/>
        </p:nvSpPr>
        <p:spPr>
          <a:xfrm>
            <a:off x="539640" y="2421000"/>
            <a:ext cx="7632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tax data we need to link tax units to statistical units. But tax units are quite different composites of base units then stat. Unit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ong links occur and time delays between sources results missing links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ction by clerical review “profilers” but only for important suspicious links. Similar to selective edit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for selection of important linkage errors in different phases of the statistical process have been identifie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47D-9672-46F9-ACC0-C51B9601BFE1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integration problems with linked business dat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s reporting at different time intervals: monthly, quarterly, ye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over on tax declaration is differently defined Eurostat defin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3216240"/>
            <a:ext cx="8280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have been studied in detail and sever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methods (including imputation) have be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voettekst 2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4AE-7A7F-47CA-8309-3E4989935F33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595"/>
                </a:solidFill>
                <a:latin typeface="Arial"/>
              </a:rPr>
              <a:t>Statistical matching: of non-overlapping data</a:t>
            </a:r>
            <a:endParaRPr b="1" lang="en-US" sz="26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116000" y="1773360"/>
            <a:ext cx="11509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36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050920" y="2421000"/>
            <a:ext cx="1150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68360" y="24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116000" y="141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           x      z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2050920" y="1773360"/>
            <a:ext cx="505080" cy="107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133200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2286720" y="1844640"/>
            <a:ext cx="10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3780000" y="1557360"/>
            <a:ext cx="511308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data set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istinct unit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va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stinct va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684360" y="321300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an be inferred about the relation between y and z 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te conditional distributions P(y|x), P(z|x) and P(x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al for relative frequencies P(y,z) or correlati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84360" y="4869000"/>
            <a:ext cx="712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velopment of metho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stimating with complex sampling design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of metho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oretically and by simul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480-723F-4C00-892B-C2A24D63D405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595"/>
                </a:solidFill>
                <a:latin typeface="Arial"/>
              </a:rPr>
              <a:t>Estimating with partially overlapping data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619280" y="2637000"/>
            <a:ext cx="431640" cy="43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87280" y="1773360"/>
            <a:ext cx="432000" cy="1079280"/>
          </a:xfrm>
          <a:prstGeom prst="rect">
            <a:avLst/>
          </a:prstGeom>
          <a:solidFill>
            <a:srgbClr val="ef41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843280" y="1197000"/>
            <a:ext cx="56163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se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opulation register containing auxiliary va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se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 containing target va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xy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se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ontaining target v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y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118728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3"/>
          <p:cNvGrpSpPr/>
          <p:nvPr/>
        </p:nvGrpSpPr>
        <p:grpSpPr>
          <a:xfrm>
            <a:off x="755640" y="1341360"/>
            <a:ext cx="1440000" cy="1943280"/>
            <a:chOff x="755640" y="1341360"/>
            <a:chExt cx="1440000" cy="1943280"/>
          </a:xfrm>
        </p:grpSpPr>
        <p:sp>
          <p:nvSpPr>
            <p:cNvPr id="158" name="Text Box 10"/>
            <p:cNvSpPr/>
            <p:nvPr/>
          </p:nvSpPr>
          <p:spPr>
            <a:xfrm>
              <a:off x="826920" y="1341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x   z   y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1619280" y="2565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755640" y="1773360"/>
              <a:ext cx="431640" cy="15112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755640" y="1700280"/>
              <a:ext cx="38268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5"/>
          <p:cNvSpPr/>
          <p:nvPr/>
        </p:nvSpPr>
        <p:spPr>
          <a:xfrm>
            <a:off x="826920" y="3860640"/>
            <a:ext cx="80647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ression estimator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 auxiliary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 regression estimator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pulatio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pulation: reg. estimator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 auxiliary 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for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pulation: reg. estimator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 auxiliary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84360" y="342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ors for the population tot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684360" y="558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ors for bias and variance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voettekst 3"/>
          <p:cNvSpPr/>
          <p:nvPr/>
        </p:nvSpPr>
        <p:spPr>
          <a:xfrm>
            <a:off x="685800" y="62485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l*a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4"/>
          <p:cNvSpPr/>
          <p:nvPr/>
        </p:nvSpPr>
        <p:spPr>
          <a:xfrm>
            <a:off x="73152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A6A-47D1-4CA9-8E84-A91DFD2208EB}" type="slidenum">
              <a:rPr b="1" lang="en-US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5595"/>
                </a:solidFill>
                <a:latin typeface="Arial"/>
              </a:rPr>
              <a:t>Micro and macro consistency problems(1)</a:t>
            </a:r>
            <a:endParaRPr b="1" lang="en-US" sz="3000" spc="-1" strike="noStrike">
              <a:solidFill>
                <a:srgbClr val="00559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onsistency problem for micro-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4360" y="1557360"/>
            <a:ext cx="82803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ed records consist of data from two sourc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n. data (Turnover, Wages, #Employees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vey data (Turnover by activity, different types of costs etc.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2708280"/>
            <a:ext cx="81360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have to satisfied consistency checks (edit rul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t = Turnover – cos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over = Turnover main + Turnover oth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consistency if data are from different source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84360" y="4437000"/>
            <a:ext cx="828036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adjustment strategy, adjust survey vars such tha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stments are as small as possib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justed record satisfies all constraint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7:22:27Z</dcterms:created>
  <dc:creator>Fannie Cobben</dc:creator>
  <dc:description/>
  <dc:language>en-US</dc:language>
  <cp:lastModifiedBy>Jeroen</cp:lastModifiedBy>
  <dcterms:modified xsi:type="dcterms:W3CDTF">2011-11-23T21:49:36Z</dcterms:modified>
  <cp:revision>46</cp:revision>
  <dc:subject/>
  <dc:title>Titel van de presentatie</dc:title>
</cp:coreProperties>
</file>