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87468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12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52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176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52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176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B883D-370B-47B4-9DD8-EF7098E1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207FB-F763-4E2A-8FB4-1CF1040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22D7-1C4A-4D95-B52B-1768BD38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FCA2-8507-4854-8307-7E72D07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4CEA5-9347-45E3-A988-DF89594B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1280" y="274320"/>
            <a:ext cx="807552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468DC-A790-4E08-AD98-5E40C8BC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F64F-D299-4424-9BF4-E7B3718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12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FD90-E23E-4018-91BE-74EF77D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AC462-1613-4AB2-BBA4-B7B552A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1280" y="387468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8BB0-C069-4721-BA9A-DD7A4E4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12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3582-AB7A-4EEF-A28E-6202A1D9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152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1760" y="141300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128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152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1760" y="3874680"/>
            <a:ext cx="25999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7C5CF-2ED6-41A4-A6C2-18C93A33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11280" y="274320"/>
            <a:ext cx="807552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120" y="387468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120" y="1413000"/>
            <a:ext cx="39405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874680"/>
            <a:ext cx="8075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3700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Snet DI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drid 24 November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1146240"/>
            <a:ext cx="7989840" cy="1220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6165720"/>
            <a:ext cx="798984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553080" y="654516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82FD-08ED-44F9-9E8F-0F393D36C1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626920" y="624492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drid: 24 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D951-946F-4FEE-82A0-EC1B8F63E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068640"/>
            <a:ext cx="7989840" cy="1224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165720"/>
            <a:ext cx="798984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1401480" cy="37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snet-portal.eu/essnet-projects/ongoing-essnet-projects/data-integration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84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sults Of A Project On Record Linkage, Statistical Matching And Micro Integration: The ESSnet On Data Integratio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4076280"/>
            <a:ext cx="838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uro Sc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u@istat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e dissemination 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n-the-job training cours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land, UK, Latvia). Data sets used for these on-the-job training courses are anonymous and can be used for training and testing purposes (Thanks to 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n statistical matching, record linkage and micro integration (people from 13 EU, 2 candidate countries, plus Eurostat and EC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results have been disseminat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evant cong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8th Congress of the International Statistical Institute (two invited presentations on the ESSnet results and 1 participation as discussant of a session relevant to the project obj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1 European Establishment Statistics Workshop (presentation of one case study described in WP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orkshop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ttp://www.ine.es/e/essnetdi_ws201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anks to 5 invited speakers, 15 contributed papers from Europe, Australia and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edings will be made available after the workshop (former 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ttp://epp.eurostat.ec.europa.eu/cache/ITY_OFFPUB/KS-RA-09-005/EN/KS-RA-09-005-EN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ory Session: Outcomes of ESSnet DI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ssion 1: Record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ssion 2: Statistical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ssion 3: Micro integr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ssion 4: Experiences on Data integration and related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ssion 5: Register-base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ssion 6: Integration of administrative data and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ject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34136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stina Casciano, Nicoletta Cibella, Paolo Consolini, Marco Di Z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cello D’Orazio, Marco Fortini, Daniela Ichim, Filippo Oropal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ura Peci, Francesca Romana Pogelli, Mauro Scanu, Mo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nnapieco, Giovanni Seri, Tiziana Tuoto,  Luca Valentino, Jer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koek, Arnout van Delden, Bart Bakker, Paul Knottn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éander Kuijvenhoven, Frank Linder, Nino Mushkudiani, Dominique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oon, Eric Schulte Nordholt, Jean-Pierre Renfer, Daniel Kilchman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cin Szymkowiak, Adam Ambroziak, Dehnel Graży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masz Józefowski, Tomasz Klimanek, Jacek Kowalewski, E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Kowalka, Andrzej Młodak, Artur Owczarkowski, Jan Paradys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ojciech Roszka, Pietrzak Beata Rynarzewska, Magdal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akrzewska, Francisco Hernandez Jimenez, Gervasio-Luís Fernán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sobares, Miguel Guigó Pérez, Johan Fosen, Li-Chun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Snet “Data integr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 ESSnet on data integration was launched on Dec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taly, Netherlands, Norway, Poland, Spain, Switzer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ummary webpag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snet-portal.eu/essnet-projects/ongoing-essnet-projects/data-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in the ESS knowledge and application in practice of sound statistical methods for the joint use of existing data sources in the production of official statistics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er project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project continues the efforts already performed in the “ESSnet on Statistical Methodologies: area integration of surveys and administrative data” (ESSnet on ISAD)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ttp://cenex-isad.istat.i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hat kind of “data integration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project focused on th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atistical metho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f data integration, and mainly to three top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When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a sources are linked with reliable unit identifiers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cro integration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 integration aims at ensuring that the integrated data set is of good quality (fulfilment of edit checks, timeliness, representativity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unit identifiers are not able to correctly link all the units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cor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specially in its probabilistic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) When the sources to integrate do not overlap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atistical matc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two data sets do not have any units in common (e.g. when the two data sets are two sample survey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xample of micro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 job register and registration of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one becomes unemployed at the end of November and gets unemployment benefits from the beginning of Dece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obs regis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indicate that this person has lost the job at the end of the year, perhaps due to administrative delay or because of payments after job termin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gistration of benef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believed to be more accu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: how to solve inconsistencies in the integrated data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ossible problems after integration: representativity of the integrated data set, final survey weights in the integrated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xample of record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bjective: to identify the records belonging to the same shoe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ailable data: two archives (partially) over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280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xample of statistical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bjective: to study the relationship between household income and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ailable data: a survey on income and one on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8865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Snet “Data integration”: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268280"/>
          <a:ext cx="8075520" cy="4930920"/>
        </p:xfrm>
        <a:graphic>
          <a:graphicData uri="http://schemas.openxmlformats.org/drawingml/2006/table">
            <a:tbl>
              <a:tblPr/>
              <a:tblGrid>
                <a:gridCol w="2158920"/>
                <a:gridCol w="591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1 (subcoordinator INE-Spa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lding and maintaining common knowledge in record linkage, statistical matching and micro integration processing by reviewing the state-of-the-art in the literature and NSIs’ practices, and setting up of a repository of technical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2 (subcoordinator CBS-Netherlan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 methods in some specific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3 (subcoordinator ISTAT-Ita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 tools extending the existing library of applications for data integration supported by appropriate doc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4 (subcoordinator SSB-Norw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tering knowledge transfer by the development of a case study and associated recommendations on representative problems in data integration in the 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5 (subcoordinator INE-Spa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lding sustainable capacity through targeted training and active communication with non-participating 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ftware issues: record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is is a standalone software built in a modular form through the use of R, Java and MySQL, developed in Istat. It is freely available on http://forge.osor.eu/projects/relai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at has been d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vey on the needs on data preprocessing for record lin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the most important pre-processing steps: Check Functions; Conversion Functions (Field Standardization; Fields Merge; Field Parse; Inaccuracy Repair; Schema Reconcili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of the new features of Relais in an updated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semination of the software tool in two on-the-job training courses (Southampton, UK, 25 attendees, 25-28 January 2011; Riga, Latvia, 34 attendees, 4-7 July 2011) and in the project course (Roma, Italy, 24 attendees, 29 September 201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ftware issues: statistical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341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Match for statistical matching, an R package available on CRA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new functions to perform statistical matching when dealing with complex sample survey data via weight cali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a new function to explore uncertainty when dealing with categorical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a new function that allows to identify the subset of the common variables that perform better in reducing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of all the StatMatch features in a vignette (as usual for R pack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semination of the software tool in one on-the-job training course (Poznan, Poland, 21 attendees, 20-22 October 2010) and in the project course (Roma, Italy, 24 attendees, 28 September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9:21:10Z</dcterms:created>
  <dc:creator>istat</dc:creator>
  <dc:description/>
  <dc:language>en-US</dc:language>
  <cp:lastModifiedBy>template</cp:lastModifiedBy>
  <dcterms:modified xsi:type="dcterms:W3CDTF">2011-11-21T11:35:52Z</dcterms:modified>
  <cp:revision>182</cp:revision>
  <dc:subject/>
  <dc:title>Il progetto RELAIS </dc:title>
</cp:coreProperties>
</file>