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83400" cy="10033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DA0B-E403-4512-BF7D-9743B81C1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160" y="4180680"/>
            <a:ext cx="838188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E908-1C12-41C0-A0BF-A9C3CCBDB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160" y="41806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28320" y="41806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B2CC-02D5-4DF5-B9C8-489613D01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7080" y="17524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01000" y="17524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160" y="41806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7080" y="41806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01000" y="41806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CCF6-A2BE-40DF-BF6F-49DAF3978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4BB6D-1AA9-4B3A-9192-551172327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1D4DA-A967-46D8-AC03-AE9B40831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0867D-C4F0-465E-8A88-A70AFD591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26A38-2576-4697-8E2A-FD352515C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41A9E-C23D-416A-9C8A-19CDFCFF0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33160" y="76212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B572B-58CC-421C-951C-BF0846AB6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160" y="41806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99EF7-CAD4-4585-A9F2-802A18EEA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A21C-CE13-4A31-8E5E-5AEBF909E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828320" y="41806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9C450-D394-42B0-902A-53F705B50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160" y="4180680"/>
            <a:ext cx="838188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EF21D-434A-4752-943C-1FAD5B62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160" y="4180680"/>
            <a:ext cx="838188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E657B-ACD7-414B-8003-7BF6D6AFF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160" y="41806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828320" y="41806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F2AF9-68DC-4818-9DDF-E3841576D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7080" y="17524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01000" y="17524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160" y="41806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7080" y="41806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01000" y="41806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65F20-13DA-4D03-81A1-332F3CE30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3AF7-A55D-4D0E-ABDD-903012405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685D-1CCC-45BA-9BC7-99CCAF860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2B78-4E9B-4897-8577-C228F86D8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160" y="76212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AF6D-EA01-4AB6-85B6-30A42796B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160" y="41806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E5B5-9F5C-4ABF-85AD-AA54DBD4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28320" y="41806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E67E-6CFF-4A00-9173-71B6002D3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160" y="4180680"/>
            <a:ext cx="838188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1173-1AC5-449E-B608-1B6315501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901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9400" indent="-195480">
              <a:spcBef>
                <a:spcPts val="901"/>
              </a:spcBef>
              <a:buClr>
                <a:srgbClr val="003399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16040" indent="-282600">
              <a:spcBef>
                <a:spcPts val="901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12840" indent="-228600">
              <a:spcBef>
                <a:spcPts val="901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12840" indent="-228600">
              <a:spcBef>
                <a:spcPts val="901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12840" indent="-228600">
              <a:spcBef>
                <a:spcPts val="901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315200" y="6516360"/>
            <a:ext cx="9907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AFF31-2368-4CA9-AD1F-69115090B7EE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028840" y="65163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665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457840" y="6505560"/>
            <a:ext cx="46980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7B807-B1F4-41D6-8A45-0BA6D06ABCE4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723852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14AA0-A4F9-4223-9D47-DD52AEC80245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4267080" y="6477120"/>
            <a:ext cx="281952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title"/>
          </p:nvPr>
        </p:nvSpPr>
        <p:spPr>
          <a:xfrm>
            <a:off x="1447920" y="1828800"/>
            <a:ext cx="71625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305920" y="7632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77B6E-C3B3-454D-8EA0-8C5E0BB16800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665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8534160" y="6477120"/>
            <a:ext cx="39348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E8DAC-7305-4BDF-8B74-89FD782A996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66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3920" algn="ctr">
              <a:buClr>
                <a:srgbClr val="003399"/>
              </a:buClr>
              <a:buSzPct val="90000"/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33440" algn="ctr">
              <a:buClr>
                <a:srgbClr val="003399"/>
              </a:buClr>
              <a:buSzPct val="9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55440" algn="ctr">
              <a:spcBef>
                <a:spcPts val="499"/>
              </a:spcBef>
              <a:buClr>
                <a:srgbClr val="003399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5" marL="1828800" indent="55440">
              <a:spcBef>
                <a:spcPts val="499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6" marL="1828800" indent="55440">
              <a:spcBef>
                <a:spcPts val="499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.wmf"/><Relationship Id="rId19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image" Target="../media/image13.wmf"/><Relationship Id="rId8" Type="http://schemas.openxmlformats.org/officeDocument/2006/relationships/image" Target="../media/image15.wmf"/><Relationship Id="rId9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47920" y="1828800"/>
            <a:ext cx="71625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Arial"/>
              </a:rPr>
              <a:t>Towards an integrated </a:t>
            </a:r>
            <a:br>
              <a:rPr sz="3800"/>
            </a:br>
            <a:r>
              <a:rPr b="1" lang="en-US" sz="3800" spc="-1" strike="noStrike">
                <a:solidFill>
                  <a:srgbClr val="003399"/>
                </a:solidFill>
                <a:latin typeface="Arial"/>
              </a:rPr>
              <a:t>Labour Account System</a:t>
            </a: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429000"/>
            <a:ext cx="514008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i-Chun Zh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tistics Nor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90CB0-9C1C-45BA-A927-DDAA00DF937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627280" y="1982880"/>
            <a:ext cx="3673440" cy="158436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19280" y="1982880"/>
            <a:ext cx="3240000" cy="158436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783200" cy="5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A “tale” of two outlooks (I)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42920" y="1406520"/>
            <a:ext cx="3816360" cy="158436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02000" y="11113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A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41400" y="320688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229440" y="226368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27280" y="1989000"/>
            <a:ext cx="2232000" cy="1008360"/>
          </a:xfrm>
          <a:prstGeom prst="rect">
            <a:avLst/>
          </a:prstGeom>
          <a:solidFill>
            <a:srgbClr val="003399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55640" y="5300640"/>
            <a:ext cx="1871640" cy="1008000"/>
          </a:xfrm>
          <a:prstGeom prst="can">
            <a:avLst>
              <a:gd name="adj" fmla="val 25000"/>
            </a:avLst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ge Survey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WS)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588000" y="5373720"/>
            <a:ext cx="1440000" cy="936720"/>
          </a:xfrm>
          <a:prstGeom prst="can">
            <a:avLst>
              <a:gd name="adj" fmla="val 25000"/>
            </a:avLst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our Force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rvey (LFS)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067280" y="4365720"/>
            <a:ext cx="2160360" cy="863640"/>
          </a:xfrm>
          <a:prstGeom prst="can">
            <a:avLst>
              <a:gd name="adj" fmla="val 25000"/>
            </a:avLst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ck &amp; Leave Survey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LS)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24000" y="4076640"/>
            <a:ext cx="1440000" cy="1225440"/>
          </a:xfrm>
          <a:prstGeom prst="can">
            <a:avLst>
              <a:gd name="adj" fmla="val 25000"/>
            </a:avLst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Wage, Salary,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Tax Registers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1600" spc="-1" strike="noStrike">
                <a:solidFill>
                  <a:srgbClr val="000000"/>
                </a:solidFill>
                <a:latin typeface="Arial"/>
              </a:rPr>
              <a:t>etc.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80000" y="5372280"/>
            <a:ext cx="1439640" cy="936360"/>
          </a:xfrm>
          <a:prstGeom prst="can">
            <a:avLst>
              <a:gd name="adj" fmla="val 25000"/>
            </a:avLst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ployment &amp;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employment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sters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714920" y="5302080"/>
            <a:ext cx="3602160" cy="1079640"/>
          </a:xfrm>
          <a:prstGeom prst="rect">
            <a:avLst/>
          </a:prstGeom>
          <a:noFill/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525720" y="4941720"/>
            <a:ext cx="1783800" cy="337320"/>
          </a:xfrm>
          <a:prstGeom prst="rect">
            <a:avLst/>
          </a:prstGeom>
          <a:noFill/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ployment Stat.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59280" y="4292640"/>
            <a:ext cx="3241440" cy="1297080"/>
          </a:xfrm>
          <a:prstGeom prst="rect">
            <a:avLst/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35200" y="3943440"/>
            <a:ext cx="1841760" cy="337320"/>
          </a:xfrm>
          <a:prstGeom prst="rect">
            <a:avLst/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ck &amp; Leave Stat.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66560" y="5013360"/>
            <a:ext cx="2305080" cy="1366920"/>
          </a:xfrm>
          <a:prstGeom prst="rect">
            <a:avLst/>
          </a:prstGeom>
          <a:noFill/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7000" y="4664160"/>
            <a:ext cx="1783800" cy="337320"/>
          </a:xfrm>
          <a:prstGeom prst="rect">
            <a:avLst/>
          </a:prstGeom>
          <a:noFill/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ge &amp; Pay Stat.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1332000" y="3573000"/>
            <a:ext cx="503280" cy="1079640"/>
          </a:xfrm>
          <a:prstGeom prst="line">
            <a:avLst/>
          </a:prstGeom>
          <a:ln w="1260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4643280" y="3573000"/>
            <a:ext cx="144720" cy="36036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6300360" y="3573000"/>
            <a:ext cx="1150920" cy="136836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79640" y="4005360"/>
            <a:ext cx="2521080" cy="2592360"/>
          </a:xfrm>
          <a:prstGeom prst="can">
            <a:avLst>
              <a:gd name="adj" fmla="val 25000"/>
            </a:avLst>
          </a:prstGeom>
          <a:solidFill>
            <a:srgbClr val="eeeeee"/>
          </a:solidFill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AG”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Electronic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alog with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ployers)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1402920" y="5013000"/>
            <a:ext cx="576360" cy="360360"/>
          </a:xfrm>
          <a:prstGeom prst="line">
            <a:avLst/>
          </a:prstGeom>
          <a:ln w="12600">
            <a:solidFill>
              <a:srgbClr val="1c1c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500720" y="4292280"/>
            <a:ext cx="576000" cy="865080"/>
          </a:xfrm>
          <a:prstGeom prst="line">
            <a:avLst/>
          </a:prstGeom>
          <a:ln w="12600">
            <a:solidFill>
              <a:srgbClr val="1c1c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00720" y="5084280"/>
            <a:ext cx="2016000" cy="73080"/>
          </a:xfrm>
          <a:prstGeom prst="line">
            <a:avLst/>
          </a:prstGeom>
          <a:ln w="12600">
            <a:solidFill>
              <a:srgbClr val="1c1c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4FAF-3DA0-4C55-8034-9C74725C9BE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627280" y="1982880"/>
            <a:ext cx="3673440" cy="158436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19280" y="1982880"/>
            <a:ext cx="3240000" cy="158436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77520" y="620640"/>
            <a:ext cx="785484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A ”tale” of two outlooks (II)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42920" y="1406520"/>
            <a:ext cx="3816360" cy="158436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02000" y="11113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A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14480" y="320688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32680" y="226368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627280" y="1989000"/>
            <a:ext cx="2232000" cy="1008360"/>
          </a:xfrm>
          <a:prstGeom prst="rect">
            <a:avLst/>
          </a:prstGeom>
          <a:solidFill>
            <a:srgbClr val="003399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1280" y="4869000"/>
            <a:ext cx="936360" cy="792000"/>
          </a:xfrm>
          <a:prstGeom prst="can">
            <a:avLst>
              <a:gd name="adj" fmla="val 25000"/>
            </a:avLst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S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32000" y="5445000"/>
            <a:ext cx="1224000" cy="719280"/>
          </a:xfrm>
          <a:prstGeom prst="can">
            <a:avLst>
              <a:gd name="adj" fmla="val 25000"/>
            </a:avLst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FS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76720" y="4653000"/>
            <a:ext cx="865080" cy="576360"/>
          </a:xfrm>
          <a:prstGeom prst="can">
            <a:avLst>
              <a:gd name="adj" fmla="val 25000"/>
            </a:avLst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S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19200" y="5805360"/>
            <a:ext cx="1783800" cy="337320"/>
          </a:xfrm>
          <a:prstGeom prst="rect">
            <a:avLst/>
          </a:prstGeom>
          <a:noFill/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ployment Stat.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14880" y="5157720"/>
            <a:ext cx="1841760" cy="337320"/>
          </a:xfrm>
          <a:prstGeom prst="rect">
            <a:avLst/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ck &amp; Leave Stat.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93720" y="4581360"/>
            <a:ext cx="1185120" cy="337320"/>
          </a:xfrm>
          <a:prstGeom prst="rect">
            <a:avLst/>
          </a:prstGeom>
          <a:noFill/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ge Stat.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35280" y="4797360"/>
            <a:ext cx="1079280" cy="1368360"/>
          </a:xfrm>
          <a:prstGeom prst="can">
            <a:avLst>
              <a:gd name="adj" fmla="val 25000"/>
            </a:avLst>
          </a:prstGeom>
          <a:noFill/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AG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68360" y="4437000"/>
            <a:ext cx="4032360" cy="187164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92720" y="4292640"/>
            <a:ext cx="3313080" cy="2305080"/>
          </a:xfrm>
          <a:prstGeom prst="ellipse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484360" y="3645000"/>
            <a:ext cx="503280" cy="720720"/>
          </a:xfrm>
          <a:prstGeom prst="upArrow">
            <a:avLst>
              <a:gd name="adj1" fmla="val 50000"/>
              <a:gd name="adj2" fmla="val 35801"/>
            </a:avLst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19440600">
            <a:off x="5681520" y="3586320"/>
            <a:ext cx="503280" cy="863280"/>
          </a:xfrm>
          <a:prstGeom prst="upDownArrow">
            <a:avLst>
              <a:gd name="adj1" fmla="val 50000"/>
              <a:gd name="adj2" fmla="val 34147"/>
            </a:avLst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0" y="5013360"/>
            <a:ext cx="647640" cy="503280"/>
          </a:xfrm>
          <a:prstGeom prst="rightArrow">
            <a:avLst>
              <a:gd name="adj1" fmla="val 50000"/>
              <a:gd name="adj2" fmla="val 32171"/>
            </a:avLst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55F1-FFFB-402B-9496-E82D42F09D4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3399"/>
                </a:solidFill>
                <a:latin typeface="Arial"/>
              </a:rPr>
              <a:t>Micro Calibration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687840" y="1273320"/>
          <a:ext cx="34128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7840" y="1273320"/>
                    <a:ext cx="34128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6880320" y="2401920"/>
          <a:ext cx="203040" cy="228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80320" y="2401920"/>
                    <a:ext cx="20304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3327480" y="1628640"/>
            <a:ext cx="5256000" cy="4032360"/>
          </a:xfrm>
          <a:prstGeom prst="rect">
            <a:avLst/>
          </a:prstGeom>
          <a:solidFill>
            <a:srgbClr val="eeeeee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929280" y="3954600"/>
            <a:ext cx="503280" cy="914400"/>
          </a:xfrm>
          <a:prstGeom prst="rect">
            <a:avLst/>
          </a:prstGeom>
          <a:solidFill>
            <a:srgbClr val="ffcc00"/>
          </a:solidFill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327480" y="1628640"/>
            <a:ext cx="1079280" cy="4032360"/>
          </a:xfrm>
          <a:prstGeom prst="rect">
            <a:avLst/>
          </a:prstGeom>
          <a:solidFill>
            <a:srgbClr val="3399ff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432560" y="1628640"/>
            <a:ext cx="574920" cy="4032360"/>
          </a:xfrm>
          <a:prstGeom prst="rect">
            <a:avLst/>
          </a:prstGeom>
          <a:solidFill>
            <a:srgbClr val="008080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7602480" y="1268280"/>
          <a:ext cx="319320" cy="339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02480" y="1268280"/>
                    <a:ext cx="319320" cy="3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4581360" y="1628640"/>
          <a:ext cx="187560" cy="306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81360" y="1628640"/>
                    <a:ext cx="187560" cy="3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5127480" y="1268280"/>
          <a:ext cx="281160" cy="360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127480" y="1268280"/>
                    <a:ext cx="2811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4408560" y="1938240"/>
            <a:ext cx="574560" cy="482760"/>
          </a:xfrm>
          <a:prstGeom prst="rect">
            <a:avLst/>
          </a:prstGeom>
          <a:solidFill>
            <a:srgbClr val="ffcc00"/>
          </a:solidFill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983120" y="1628640"/>
            <a:ext cx="574560" cy="4032360"/>
          </a:xfrm>
          <a:prstGeom prst="rect">
            <a:avLst/>
          </a:prstGeom>
          <a:solidFill>
            <a:srgbClr val="008080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210000" y="378936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7000920" y="3645000"/>
          <a:ext cx="279360" cy="336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000920" y="3645000"/>
                    <a:ext cx="27936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695160" y="1459080"/>
            <a:ext cx="2334240" cy="4961160"/>
          </a:xfrm>
          <a:prstGeom prst="rect">
            <a:avLst/>
          </a:prstGeom>
          <a:noFill/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: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nsus, register;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xiliary, common,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nown, fixed…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-values: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nsus, register;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on, proxy,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rrogate, cheap…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-values: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rvey or otherwise;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ive/partial, “true”,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rget, golden-standard,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ansive...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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values: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cro calibration;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id (Zhang, 2011),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on/complete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5703840" y="1268280"/>
          <a:ext cx="281160" cy="381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703840" y="1268280"/>
                    <a:ext cx="28116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5559480" y="1628640"/>
            <a:ext cx="574560" cy="4032360"/>
          </a:xfrm>
          <a:prstGeom prst="rect">
            <a:avLst/>
          </a:prstGeom>
          <a:solidFill>
            <a:srgbClr val="333399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8123400" y="1268280"/>
          <a:ext cx="341280" cy="3812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8123400" y="1268280"/>
                    <a:ext cx="34128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8008920" y="1628640"/>
            <a:ext cx="574560" cy="4032360"/>
          </a:xfrm>
          <a:prstGeom prst="rect">
            <a:avLst/>
          </a:prstGeom>
          <a:solidFill>
            <a:srgbClr val="333399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3903840" y="5734080"/>
          <a:ext cx="4321080" cy="5428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903840" y="5734080"/>
                    <a:ext cx="4321080" cy="542880"/>
                  </a:xfrm>
                  <a:prstGeom prst="rect">
                    <a:avLst/>
                  </a:prstGeom>
                  <a:ln w="9360">
                    <a:solidFill>
                      <a:srgbClr val="cc33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5435640" y="1413000"/>
            <a:ext cx="216000" cy="0"/>
          </a:xfrm>
          <a:prstGeom prst="line">
            <a:avLst/>
          </a:prstGeom>
          <a:ln w="1260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885080" y="1413000"/>
            <a:ext cx="216000" cy="0"/>
          </a:xfrm>
          <a:prstGeom prst="line">
            <a:avLst/>
          </a:prstGeom>
          <a:ln w="1260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55A3-2514-439C-A4F1-FFAAD60C1F8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8280360" cy="62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An algorithmic approach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21840" y="1412640"/>
            <a:ext cx="8497800" cy="863640"/>
          </a:xfrm>
          <a:prstGeom prst="rect">
            <a:avLst/>
          </a:prstGeom>
          <a:noFill/>
          <a:ln w="12600">
            <a:solidFill>
              <a:srgbClr val="cc3300"/>
            </a:solidFill>
            <a:miter/>
          </a:ln>
        </p:spPr>
        <p:txBody>
          <a:bodyPr lIns="0" rIns="0" tIns="0" bIns="0" anchor="t">
            <a:normAutofit/>
          </a:bodyPr>
          <a:p>
            <a:pPr marL="246240" indent="-246240">
              <a:spcBef>
                <a:spcPts val="75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st stage: Adjusting for pair-wise, compensating off-diagonal gross f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75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nd stage: adjusting all diagonal flows for spurious f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835280" y="2411280"/>
            <a:ext cx="4130640" cy="2970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5985000" y="2421000"/>
            <a:ext cx="1035000" cy="3063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3348000" y="2708280"/>
            <a:ext cx="1790640" cy="8287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1979640" y="3645000"/>
            <a:ext cx="6075360" cy="9093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986760" y="3933720"/>
            <a:ext cx="106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st stage: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6227640" y="4959360"/>
            <a:ext cx="1719360" cy="917640"/>
          </a:xfrm>
          <a:prstGeom prst="rect">
            <a:avLst/>
          </a:prstGeom>
          <a:ln w="12600">
            <a:solidFill>
              <a:srgbClr val="cc3300"/>
            </a:solidFill>
            <a:miter/>
          </a:ln>
        </p:spPr>
      </p:pic>
      <p:sp>
        <p:nvSpPr>
          <p:cNvPr id="172" name=""/>
          <p:cNvSpPr/>
          <p:nvPr/>
        </p:nvSpPr>
        <p:spPr>
          <a:xfrm>
            <a:off x="973800" y="503712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nd stage: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66920" y="4869000"/>
            <a:ext cx="3960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initiation from (1,1): no in-flows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initiation from (2,2): no out-flows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sible spurious flows w.r.t. (3,3)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-flow 1 from (1,1), out-flow 2 to (2,2)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F0E3-FB1A-4711-B9D2-90830A8AB6B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A method of lagrange multipliers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17600" y="1268280"/>
            <a:ext cx="8307360" cy="1818000"/>
          </a:xfrm>
          <a:prstGeom prst="rect">
            <a:avLst/>
          </a:prstGeom>
          <a:ln w="12600">
            <a:solidFill>
              <a:srgbClr val="cc3300"/>
            </a:solidFill>
            <a:miter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1332000" y="3276720"/>
            <a:ext cx="3519360" cy="657000"/>
          </a:xfrm>
          <a:prstGeom prst="rect">
            <a:avLst/>
          </a:prstGeom>
          <a:ln w="12600">
            <a:solidFill>
              <a:srgbClr val="cc3300"/>
            </a:solidFill>
            <a:miter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5219640" y="3389400"/>
            <a:ext cx="2438640" cy="368280"/>
          </a:xfrm>
          <a:prstGeom prst="rect">
            <a:avLst/>
          </a:prstGeom>
          <a:ln w="12600">
            <a:solidFill>
              <a:srgbClr val="cc3300"/>
            </a:solidFill>
            <a:miter/>
          </a:ln>
        </p:spPr>
      </p:pic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1547640" y="4076640"/>
            <a:ext cx="6002640" cy="486000"/>
          </a:xfrm>
          <a:prstGeom prst="rect">
            <a:avLst/>
          </a:prstGeom>
          <a:ln w="12600">
            <a:solidFill>
              <a:srgbClr val="cc3300"/>
            </a:solidFill>
            <a:miter/>
          </a:ln>
        </p:spPr>
      </p:pic>
      <p:pic>
        <p:nvPicPr>
          <p:cNvPr id="179" name="" descr=""/>
          <p:cNvPicPr/>
          <p:nvPr/>
        </p:nvPicPr>
        <p:blipFill>
          <a:blip r:embed="rId5"/>
          <a:stretch/>
        </p:blipFill>
        <p:spPr>
          <a:xfrm>
            <a:off x="1908000" y="4869000"/>
            <a:ext cx="4131000" cy="2966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6"/>
          <a:stretch/>
        </p:blipFill>
        <p:spPr>
          <a:xfrm>
            <a:off x="6058080" y="4878360"/>
            <a:ext cx="1035000" cy="3063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7"/>
          <a:stretch/>
        </p:blipFill>
        <p:spPr>
          <a:xfrm>
            <a:off x="2421000" y="5300640"/>
            <a:ext cx="1790640" cy="828720"/>
          </a:xfrm>
          <a:prstGeom prst="rect">
            <a:avLst/>
          </a:prstGeom>
          <a:ln w="12600">
            <a:solidFill>
              <a:srgbClr val="cc3300"/>
            </a:solidFill>
            <a:miter/>
          </a:ln>
        </p:spPr>
      </p:pic>
      <p:pic>
        <p:nvPicPr>
          <p:cNvPr id="182" name="" descr=""/>
          <p:cNvPicPr/>
          <p:nvPr/>
        </p:nvPicPr>
        <p:blipFill>
          <a:blip r:embed="rId8"/>
          <a:stretch/>
        </p:blipFill>
        <p:spPr>
          <a:xfrm>
            <a:off x="4859280" y="5229360"/>
            <a:ext cx="1719360" cy="917280"/>
          </a:xfrm>
          <a:prstGeom prst="rect">
            <a:avLst/>
          </a:prstGeom>
          <a:ln w="12600">
            <a:solidFill>
              <a:srgbClr val="cc33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4202280" y="5715000"/>
            <a:ext cx="647640" cy="0"/>
          </a:xfrm>
          <a:prstGeom prst="line">
            <a:avLst/>
          </a:prstGeom>
          <a:ln w="1260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A7B4-965E-467D-A6ED-3B62A124E87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2:29:09Z</dcterms:created>
  <dc:creator>Li Chun Zhang</dc:creator>
  <dc:description/>
  <cp:keywords/>
  <dc:language>en-US</dc:language>
  <cp:lastModifiedBy>Li Chun Zhang</cp:lastModifiedBy>
  <cp:lastPrinted>1999-08-31T12:20:00Z</cp:lastPrinted>
  <dcterms:modified xsi:type="dcterms:W3CDTF">2011-11-12T10:30:20Z</dcterms:modified>
  <cp:revision>85</cp:revision>
  <dc:subject/>
  <dc:title>En kort orientering om dataintegrering</dc:title>
</cp:coreProperties>
</file>