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5050"/>
  <p:custShowLst>
    <p:custShow name="Presentazione personalizzata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268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it-IT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496B1DA-652C-4522-9026-16754CE94225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1395364-F0C7-435A-86E1-4E47D66C6652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E62A2352-4C0C-4EDF-9C2A-1F49DC2AAAC2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76EF834-BC89-4705-A230-D992608EA808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1D67C92-89A1-490B-8AEA-B928E9C0DC69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E9EF2FB-2718-4775-8B83-370F2F5B4F44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AB29313-EE86-41C0-9320-C1B85117DBF0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2A350FEC-1B4D-4914-A8AC-7BB4F58F488B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A5179AD-1E7D-44EF-B108-48A40581B46E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097BAF6-9E72-4C7C-A3EC-36A26049F0F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1BA0FA6-B0F8-4FC4-BBDA-693DCA7B21F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1935BAB-F1ED-4AD7-BC5A-FA9FC3E56A01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56EAA9A-D0DC-4248-9001-2DA4A2AE85AE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16645B0-39C5-425D-A34B-F7FAF84D7493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09974C0-AAF2-47C4-BAE6-7B955A45EEAD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BC53DB8-D280-40A3-BBAD-31E6D87641D6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3E4A2415-16E2-4D64-A894-40FE3F70086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2F9179B-BF19-4B90-8A3B-76A145E9E2E1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F63A0F7-A197-4E4A-BA45-9DB7C64AEEEF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4DC1A59D-6129-4D70-9C4B-C11A0CAB5E37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231E90F-98BA-4F70-9030-0729213A368F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6420D9E-3DF5-4E63-A66C-E8E52411E62D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CAA7EE00-C7B1-4B41-A30A-6CCC904373B8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17B57D4-9221-4AD4-94E8-947926216AF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71DA27F-FC00-4F54-83AC-5597CE73869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0CAA5F4-E645-433D-A860-CD265EB0E28E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DA6CF43-6E6D-444E-B897-F93C9790171B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C37A1C4F-4473-417F-BBF8-23C0DB130B5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4F1DD05F-1803-4A1F-B917-47314E6551F3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8F27E89-6105-47E7-89DA-858C35885151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097EEF8-931F-468C-8699-7DD206F8F13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EB7-EAA6-445F-879F-51AEA69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4A3-8FBC-4193-9675-E262BCE8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D72-4425-4F42-8C21-A71CBD9A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F29-F2ED-439F-9F0B-38C94FFD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85C-B8CA-4EF0-B315-4BE8AD1A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504-1D47-439C-8FD1-35A5E6EF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B89-327E-4B0D-8172-F99504A9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6C1-6305-41F8-9424-8BC4D57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32C-F111-41D1-B20A-911E2CD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EC1-8BE7-4993-94C4-67FFDBC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991-9718-480D-93A7-C5093DFA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725-8E1B-43FA-AF45-AB7DAAD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1B1D-AC59-4E28-8CB3-DDEFA9D5237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ateraleLogoPerPpt"/>
          <p:cNvPicPr/>
          <p:nvPr/>
        </p:nvPicPr>
        <p:blipFill>
          <a:blip r:embed="rId1"/>
          <a:srcRect l="32473" t="18527" r="0" b="6011"/>
          <a:stretch/>
        </p:blipFill>
        <p:spPr>
          <a:xfrm>
            <a:off x="-4680" y="0"/>
            <a:ext cx="1084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Line 7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ogo a colori"/>
          <p:cNvPicPr/>
          <p:nvPr/>
        </p:nvPicPr>
        <p:blipFill>
          <a:blip r:embed="rId2"/>
          <a:stretch/>
        </p:blipFill>
        <p:spPr>
          <a:xfrm>
            <a:off x="16200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797120" y="3056040"/>
            <a:ext cx="65451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C. Baldi, D. Bellisai, F. Ceccato, </a:t>
            </a:r>
            <a:r>
              <a:rPr b="1" i="1" lang="it-IT" sz="2200" spc="-1" strike="noStrike" u="sng">
                <a:solidFill>
                  <a:srgbClr val="ffffff"/>
                </a:solidFill>
                <a:uFillTx/>
                <a:latin typeface="Arial"/>
              </a:rPr>
              <a:t>S. Pacini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L. Serbassi, M. Sorrentino, D. Tuzi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27280" y="1460520"/>
            <a:ext cx="68515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system of short-term business statistics on labour in Ital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challenges of data integ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568680" y="6321600"/>
            <a:ext cx="32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413080" y="365040"/>
            <a:ext cx="553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Snet Data Integration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803240" y="4719600"/>
            <a:ext cx="65455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STAT - Italian National Stastics Instit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ttangolo 16"/>
          <p:cNvSpPr/>
          <p:nvPr/>
        </p:nvSpPr>
        <p:spPr>
          <a:xfrm>
            <a:off x="1863720" y="1496880"/>
            <a:ext cx="2577960" cy="5313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round/>
          </a:ln>
          <a:effectLst>
            <a:outerShdw dist="5076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0" y="83808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79640" y="866880"/>
          <a:ext cx="6913440" cy="583920"/>
        </p:xfrm>
        <a:graphic>
          <a:graphicData uri="http://schemas.openxmlformats.org/drawingml/2006/table">
            <a:tbl>
              <a:tblPr/>
              <a:tblGrid>
                <a:gridCol w="2301840"/>
                <a:gridCol w="2305080"/>
                <a:gridCol w="230652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1720" y="1627200"/>
          <a:ext cx="961920" cy="5041800"/>
        </p:xfrm>
        <a:graphic>
          <a:graphicData uri="http://schemas.openxmlformats.org/drawingml/2006/table">
            <a:tbl>
              <a:tblPr/>
              <a:tblGrid>
                <a:gridCol w="961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26"/>
          <p:cNvSpPr/>
          <p:nvPr/>
        </p:nvSpPr>
        <p:spPr>
          <a:xfrm>
            <a:off x="2041560" y="1609560"/>
            <a:ext cx="4537080" cy="81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2048040" y="2440080"/>
            <a:ext cx="2232000" cy="4157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9"/>
          <p:cNvSpPr/>
          <p:nvPr/>
        </p:nvSpPr>
        <p:spPr>
          <a:xfrm>
            <a:off x="6588000" y="1609560"/>
            <a:ext cx="2233800" cy="80964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3463920" y="87624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142920" y="1503360"/>
            <a:ext cx="4287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425600" y="27612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OROS / 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e 17"/>
          <p:cNvSpPr/>
          <p:nvPr/>
        </p:nvSpPr>
        <p:spPr>
          <a:xfrm>
            <a:off x="3551400" y="3633840"/>
            <a:ext cx="5330520" cy="1211040"/>
          </a:xfrm>
          <a:prstGeom prst="ellipse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1425600" y="276120"/>
            <a:ext cx="744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OROS / LES: rationale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371600" y="1282680"/>
            <a:ext cx="756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 necessity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until 2004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irms were underrepresented in the administrative early reporters (firms sending an electronic form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 choic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since the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quality of the survey data on large firms, due to the experts work in controlling response rates and data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of monthly-quarterly statistics on the subpopulation of large enter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1415880" y="324000"/>
            <a:ext cx="7183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OROS / LES:</a:t>
            </a:r>
            <a:r>
              <a:rPr b="1" lang="it-IT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liminary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1365120" y="1068480"/>
            <a:ext cx="706932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ORO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reatment of social security administrative data to get to statistical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retrieval of target variables at micro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structural information for the definition of the estimation domain (Nace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identification of anomalous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respondent uni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microediting by expe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outliers checked via re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non respondent units (20% at 55 days)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deterministic i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1425600" y="276120"/>
            <a:ext cx="744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–integration OROS / LES: main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1324080" y="1152360"/>
            <a:ext cx="756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rmo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ES monthly variables (Jobs, Wages, 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 Labour Costs) to the OROS quarterly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t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t referen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in the OROS micro data of the firms overlapping with the LES in or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 re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ministrative data with survey 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263600" y="233280"/>
            <a:ext cx="756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OROS / LES: identification of overlapping enter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1139760" y="1068480"/>
            <a:ext cx="78264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257480" y="1085760"/>
            <a:ext cx="75531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a residual list of OROS units not belonging to LES every five years, when the complete list of large enterprises is defined (in the base ye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Quarterly updating of this list to maintain its complementarity respect to the LES li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amic integration to avoid duplications or omis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0" y="10224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066680" y="101592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Logo a colori"/>
          <p:cNvPicPr/>
          <p:nvPr/>
        </p:nvPicPr>
        <p:blipFill>
          <a:blip r:embed="rId1"/>
          <a:stretch/>
        </p:blipFill>
        <p:spPr>
          <a:xfrm>
            <a:off x="657360" y="637056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587520" y="146160"/>
            <a:ext cx="7049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OROS / LES: record lin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30320" y="609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algoritm: 1) unique key linking variable: fiscal code (BIN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2) equality function on Jobs after 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318960" y="57636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"/>
          <p:cNvGrpSpPr/>
          <p:nvPr/>
        </p:nvGrpSpPr>
        <p:grpSpPr>
          <a:xfrm>
            <a:off x="249120" y="1081080"/>
            <a:ext cx="8894880" cy="5616360"/>
            <a:chOff x="249120" y="1081080"/>
            <a:chExt cx="8894880" cy="5616360"/>
          </a:xfrm>
        </p:grpSpPr>
        <p:sp>
          <p:nvSpPr>
            <p:cNvPr id="256" name="AutoShape 19"/>
            <p:cNvSpPr/>
            <p:nvPr/>
          </p:nvSpPr>
          <p:spPr>
            <a:xfrm>
              <a:off x="914040" y="1081080"/>
              <a:ext cx="8229960" cy="48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249120" y="3505320"/>
              <a:ext cx="2053800" cy="408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(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N</a:t>
              </a:r>
              <a:r>
                <a:rPr b="1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L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BIN</a:t>
              </a:r>
              <a:r>
                <a:rPr b="1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ORO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7"/>
            <p:cNvSpPr/>
            <p:nvPr/>
          </p:nvSpPr>
          <p:spPr>
            <a:xfrm>
              <a:off x="2444400" y="3913200"/>
              <a:ext cx="30898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t matched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0 if (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N</a:t>
              </a:r>
              <a:r>
                <a:rPr b="1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LE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&gt; BIN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ORO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2511000" y="2730960"/>
              <a:ext cx="26182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ch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 if (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N</a:t>
              </a:r>
              <a:r>
                <a:rPr b="1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LES,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BIN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ORO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4484520" y="2734920"/>
              <a:ext cx="1697040" cy="436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(J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J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ORO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6543360" y="3178080"/>
              <a:ext cx="219672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se match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1 if (J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L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J</a:t>
              </a:r>
              <a:r>
                <a:rPr b="0" lang="en-GB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ORO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abs(threshold)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3"/>
            <p:cNvSpPr/>
            <p:nvPr/>
          </p:nvSpPr>
          <p:spPr>
            <a:xfrm>
              <a:off x="2310480" y="2826360"/>
              <a:ext cx="254520" cy="1782000"/>
            </a:xfrm>
            <a:custGeom>
              <a:avLst/>
              <a:gdLst>
                <a:gd name="textAreaLeft" fmla="*/ 162720 w 254520"/>
                <a:gd name="textAreaRight" fmla="*/ 254880 w 254520"/>
                <a:gd name="textAreaTop" fmla="*/ 37440 h 1782000"/>
                <a:gd name="textAreaBottom" fmla="*/ 1744560 h 178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8"/>
                    <a:pt x="10800" y="1456"/>
                  </a:cubicBezTo>
                  <a:lnTo>
                    <a:pt x="10800" y="9344"/>
                  </a:lnTo>
                  <a:cubicBezTo>
                    <a:pt x="10800" y="10072"/>
                    <a:pt x="5400" y="10800"/>
                    <a:pt x="0" y="10800"/>
                  </a:cubicBezTo>
                  <a:cubicBezTo>
                    <a:pt x="5400" y="10800"/>
                    <a:pt x="10800" y="11528"/>
                    <a:pt x="10800" y="12256"/>
                  </a:cubicBezTo>
                  <a:lnTo>
                    <a:pt x="10800" y="20144"/>
                  </a:lnTo>
                  <a:cubicBezTo>
                    <a:pt x="10800" y="2087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4757760" y="4259880"/>
              <a:ext cx="123372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>
              <a:off x="6777360" y="3999960"/>
              <a:ext cx="72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6019200" y="4273200"/>
              <a:ext cx="2982600" cy="140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erical review  using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other sourc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residual OROS large units not matched with L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6145920" y="1816920"/>
              <a:ext cx="320400" cy="2232000"/>
            </a:xfrm>
            <a:custGeom>
              <a:avLst/>
              <a:gdLst>
                <a:gd name="textAreaLeft" fmla="*/ 204840 w 320400"/>
                <a:gd name="textAreaRight" fmla="*/ 320760 w 320400"/>
                <a:gd name="textAreaTop" fmla="*/ 38880 h 2232000"/>
                <a:gd name="textAreaBottom" fmla="*/ 21931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03"/>
                    <a:pt x="10800" y="1205"/>
                  </a:cubicBezTo>
                  <a:lnTo>
                    <a:pt x="10800" y="9595"/>
                  </a:lnTo>
                  <a:cubicBezTo>
                    <a:pt x="10800" y="10198"/>
                    <a:pt x="5400" y="10800"/>
                    <a:pt x="0" y="10800"/>
                  </a:cubicBezTo>
                  <a:cubicBezTo>
                    <a:pt x="5400" y="10800"/>
                    <a:pt x="10800" y="11403"/>
                    <a:pt x="10800" y="12005"/>
                  </a:cubicBezTo>
                  <a:lnTo>
                    <a:pt x="10800" y="20395"/>
                  </a:lnTo>
                  <a:cubicBezTo>
                    <a:pt x="10800" y="2099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771480" y="1686240"/>
              <a:ext cx="2443680" cy="5961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RO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firms 1+ empl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3337200" y="1662840"/>
              <a:ext cx="698040" cy="6076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ES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5427000" y="6041160"/>
              <a:ext cx="2731680" cy="6339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ROS           +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firms 1-499 empl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7493760" y="6028920"/>
              <a:ext cx="735840" cy="6685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7071120" y="5407920"/>
              <a:ext cx="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3"/>
            <p:cNvSpPr/>
            <p:nvPr/>
          </p:nvSpPr>
          <p:spPr>
            <a:xfrm>
              <a:off x="2907000" y="2419200"/>
              <a:ext cx="771120" cy="271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2"/>
            <p:cNvSpPr/>
            <p:nvPr/>
          </p:nvSpPr>
          <p:spPr>
            <a:xfrm>
              <a:off x="6683040" y="5727960"/>
              <a:ext cx="771120" cy="272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31"/>
          <p:cNvSpPr/>
          <p:nvPr/>
        </p:nvSpPr>
        <p:spPr>
          <a:xfrm>
            <a:off x="7527960" y="6093000"/>
            <a:ext cx="67788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6483240" y="1727280"/>
            <a:ext cx="2328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ue matc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 if (J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L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J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RO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&lt;=abs(threshold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266840" y="264960"/>
            <a:ext cx="729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cators on total labour costs – ratio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1401840" y="1068480"/>
            <a:ext cx="72072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fter the construction of the OROS + LES integrated sour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lmost complete coverage of the popul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(5% of late reporters)</a:t>
            </a:r>
            <a:r>
              <a:rPr b="0" lang="en-US" sz="2400" spc="-1" strike="noStrike">
                <a:solidFill>
                  <a:srgbClr val="11111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hence estimation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summing up the quarterly OROS and LE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very accurate estimates for the ratio variables (per capita Wages, Labour Cost and Other Labour Cos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but for Job estimates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.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444680" y="324000"/>
            <a:ext cx="71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gration of OROS / LES: macro adjust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1473120" y="1068480"/>
            <a:ext cx="72072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need to adjust the </a:t>
            </a:r>
            <a:r>
              <a:rPr b="0" lang="en-US" sz="2400" spc="-1" strike="noStrike" u="sng">
                <a:solidFill>
                  <a:srgbClr val="111111"/>
                </a:solidFill>
                <a:uFillTx/>
                <a:latin typeface="Arial"/>
              </a:rPr>
              <a:t>jobs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estimates based on OROS+LES for the incompleteness of the OROS data file due to late admin repor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macro approach: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based on time series information</a:t>
            </a:r>
            <a:r>
              <a:rPr b="1" lang="en-US" sz="2400" spc="-1" strike="noStrike" baseline="-25000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(past revision errors, longitudinal information on reporters) at Nace two digits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tangolo 9"/>
          <p:cNvSpPr/>
          <p:nvPr/>
        </p:nvSpPr>
        <p:spPr>
          <a:xfrm>
            <a:off x="938160" y="517860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sting a micro imputation approa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(within ESSnet Administrative Data - WP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ttangolo 18"/>
          <p:cNvSpPr/>
          <p:nvPr/>
        </p:nvSpPr>
        <p:spPr>
          <a:xfrm>
            <a:off x="1897200" y="3645000"/>
            <a:ext cx="7089480" cy="1258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round/>
          </a:ln>
          <a:effectLst>
            <a:outerShdw dist="5076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ttangolo 16"/>
          <p:cNvSpPr/>
          <p:nvPr/>
        </p:nvSpPr>
        <p:spPr>
          <a:xfrm>
            <a:off x="1863720" y="1496880"/>
            <a:ext cx="708984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round/>
          </a:ln>
          <a:effectLst>
            <a:outerShdw dist="5076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949320"/>
          <a:ext cx="6913440" cy="415800"/>
        </p:xfrm>
        <a:graphic>
          <a:graphicData uri="http://schemas.openxmlformats.org/drawingml/2006/table">
            <a:tbl>
              <a:tblPr/>
              <a:tblGrid>
                <a:gridCol w="2301840"/>
                <a:gridCol w="2305080"/>
                <a:gridCol w="230652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801720" y="1627200"/>
          <a:ext cx="961920" cy="5041800"/>
        </p:xfrm>
        <a:graphic>
          <a:graphicData uri="http://schemas.openxmlformats.org/drawingml/2006/table">
            <a:tbl>
              <a:tblPr/>
              <a:tblGrid>
                <a:gridCol w="961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Rectangle 26"/>
          <p:cNvSpPr/>
          <p:nvPr/>
        </p:nvSpPr>
        <p:spPr>
          <a:xfrm>
            <a:off x="2041560" y="1609560"/>
            <a:ext cx="4537080" cy="81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2048040" y="2440080"/>
            <a:ext cx="2232000" cy="4157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588000" y="1609560"/>
            <a:ext cx="2233800" cy="80964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142920" y="1503360"/>
            <a:ext cx="4287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487440" y="193680"/>
            <a:ext cx="771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gration:   - VELA  / L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 VELA / OR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e 17"/>
          <p:cNvSpPr/>
          <p:nvPr/>
        </p:nvSpPr>
        <p:spPr>
          <a:xfrm>
            <a:off x="3705120" y="3633840"/>
            <a:ext cx="5176800" cy="1211040"/>
          </a:xfrm>
          <a:prstGeom prst="ellipse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ttore 1 22"/>
          <p:cNvSpPr/>
          <p:nvPr/>
        </p:nvSpPr>
        <p:spPr>
          <a:xfrm flipH="1">
            <a:off x="2849400" y="938160"/>
            <a:ext cx="1296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4"/>
          <p:cNvSpPr/>
          <p:nvPr/>
        </p:nvSpPr>
        <p:spPr>
          <a:xfrm>
            <a:off x="1549440" y="324000"/>
            <a:ext cx="7049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of VELA with OROS and 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1190520" y="14508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t micro leve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a unified sample dataset with Jobs, Job Vacancies and Hours Wor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t macro leve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eighting of the sample to represent the current OROS+LES firm population with 10+ 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370160" y="1147680"/>
            <a:ext cx="74293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he Italian labour market short-term business statistics: EU regulations and national rele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he administrative and statistical sources of the system and the main output variables</a:t>
            </a:r>
            <a:r>
              <a:rPr b="0" lang="it-IT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he integration between administrative data and traditional surveys to get to a system of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Concluding re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530360" y="314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ut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ttangolo 16"/>
          <p:cNvSpPr/>
          <p:nvPr/>
        </p:nvSpPr>
        <p:spPr>
          <a:xfrm>
            <a:off x="1863720" y="1496880"/>
            <a:ext cx="708984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round/>
          </a:ln>
          <a:effectLst>
            <a:outerShdw dist="5076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979640" y="866880"/>
          <a:ext cx="6913440" cy="403200"/>
        </p:xfrm>
        <a:graphic>
          <a:graphicData uri="http://schemas.openxmlformats.org/drawingml/2006/table">
            <a:tbl>
              <a:tblPr/>
              <a:tblGrid>
                <a:gridCol w="2301840"/>
                <a:gridCol w="2305080"/>
                <a:gridCol w="230652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801720" y="1627200"/>
          <a:ext cx="961920" cy="5041800"/>
        </p:xfrm>
        <a:graphic>
          <a:graphicData uri="http://schemas.openxmlformats.org/drawingml/2006/table">
            <a:tbl>
              <a:tblPr/>
              <a:tblGrid>
                <a:gridCol w="961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26"/>
          <p:cNvSpPr/>
          <p:nvPr/>
        </p:nvSpPr>
        <p:spPr>
          <a:xfrm>
            <a:off x="2041560" y="1609560"/>
            <a:ext cx="4537080" cy="81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2048040" y="2440080"/>
            <a:ext cx="2232000" cy="4157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6588000" y="1609560"/>
            <a:ext cx="2233800" cy="80964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142920" y="1503360"/>
            <a:ext cx="4287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760320" y="217440"/>
            <a:ext cx="7275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VELA / LES: large enter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e 17"/>
          <p:cNvSpPr/>
          <p:nvPr/>
        </p:nvSpPr>
        <p:spPr>
          <a:xfrm>
            <a:off x="3705120" y="3633840"/>
            <a:ext cx="5176800" cy="1211040"/>
          </a:xfrm>
          <a:prstGeom prst="ellipse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nettore 1 19"/>
          <p:cNvSpPr/>
          <p:nvPr/>
        </p:nvSpPr>
        <p:spPr>
          <a:xfrm>
            <a:off x="3418920" y="866880"/>
            <a:ext cx="1260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320760" y="158760"/>
            <a:ext cx="8823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om VELA sample to an integrated set of sample d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LA / L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489040" y="1731960"/>
            <a:ext cx="190512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4406760" y="1731960"/>
            <a:ext cx="201960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6413400" y="1725480"/>
            <a:ext cx="1955880" cy="970200"/>
          </a:xfrm>
          <a:prstGeom prst="rect">
            <a:avLst/>
          </a:prstGeom>
          <a:solidFill>
            <a:srgbClr val="9c9cd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VE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6427800" y="2657520"/>
            <a:ext cx="19303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82440" y="196992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00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all LES fir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82440" y="3503520"/>
            <a:ext cx="86220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of un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at of 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urs Work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n from LES (even for VELA respondents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variable definition; editing and imputation by LES exp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ion or imputation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ob Vaca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ach record throug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A JV ratio of the firm for good match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-deck nearest neighbor donor imputation for bad matches or miss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05240" y="1163520"/>
          <a:ext cx="5925960" cy="365400"/>
        </p:xfrm>
        <a:graphic>
          <a:graphicData uri="http://schemas.openxmlformats.org/drawingml/2006/table">
            <a:tbl>
              <a:tblPr/>
              <a:tblGrid>
                <a:gridCol w="1887480"/>
                <a:gridCol w="2008080"/>
                <a:gridCol w="2030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43" name="Parentesi graffa aperta 15"/>
          <p:cNvSpPr/>
          <p:nvPr/>
        </p:nvSpPr>
        <p:spPr>
          <a:xfrm>
            <a:off x="2160720" y="1793880"/>
            <a:ext cx="250560" cy="1055520"/>
          </a:xfrm>
          <a:custGeom>
            <a:avLst/>
            <a:gdLst>
              <a:gd name="textAreaLeft" fmla="*/ 160200 w 250560"/>
              <a:gd name="textAreaRight" fmla="*/ 250560 w 250560"/>
              <a:gd name="textAreaTop" fmla="*/ 6480 h 1055520"/>
              <a:gd name="textAreaBottom" fmla="*/ 1049040 h 105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"/>
                  <a:pt x="10800" y="428"/>
                </a:cubicBezTo>
                <a:lnTo>
                  <a:pt x="10800" y="10372"/>
                </a:lnTo>
                <a:cubicBezTo>
                  <a:pt x="10800" y="10586"/>
                  <a:pt x="5400" y="10800"/>
                  <a:pt x="0" y="10800"/>
                </a:cubicBezTo>
                <a:cubicBezTo>
                  <a:pt x="5400" y="10800"/>
                  <a:pt x="10800" y="11014"/>
                  <a:pt x="10800" y="11228"/>
                </a:cubicBezTo>
                <a:lnTo>
                  <a:pt x="10800" y="21172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ttangolo 16"/>
          <p:cNvSpPr/>
          <p:nvPr/>
        </p:nvSpPr>
        <p:spPr>
          <a:xfrm>
            <a:off x="1887480" y="3479760"/>
            <a:ext cx="7089840" cy="1471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round/>
          </a:ln>
          <a:effectLst>
            <a:outerShdw dist="5076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79640" y="938160"/>
          <a:ext cx="6913440" cy="426960"/>
        </p:xfrm>
        <a:graphic>
          <a:graphicData uri="http://schemas.openxmlformats.org/drawingml/2006/table">
            <a:tbl>
              <a:tblPr/>
              <a:tblGrid>
                <a:gridCol w="2301840"/>
                <a:gridCol w="2305080"/>
                <a:gridCol w="230652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801720" y="1627200"/>
          <a:ext cx="961920" cy="5041800"/>
        </p:xfrm>
        <a:graphic>
          <a:graphicData uri="http://schemas.openxmlformats.org/drawingml/2006/table">
            <a:tbl>
              <a:tblPr/>
              <a:tblGrid>
                <a:gridCol w="961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Rectangle 26"/>
          <p:cNvSpPr/>
          <p:nvPr/>
        </p:nvSpPr>
        <p:spPr>
          <a:xfrm>
            <a:off x="2041560" y="1609560"/>
            <a:ext cx="4537080" cy="81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2048040" y="2440080"/>
            <a:ext cx="2232000" cy="4157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>
            <a:off x="6588000" y="1609560"/>
            <a:ext cx="2233800" cy="809640"/>
          </a:xfrm>
          <a:prstGeom prst="rect">
            <a:avLst/>
          </a:prstGeom>
          <a:solidFill>
            <a:srgbClr val="9c9cd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142920" y="1503360"/>
            <a:ext cx="4287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439560" y="169920"/>
            <a:ext cx="8704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integration VELA / ORO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 and medium enterprises of VELA s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e 17"/>
          <p:cNvSpPr/>
          <p:nvPr/>
        </p:nvSpPr>
        <p:spPr>
          <a:xfrm>
            <a:off x="3705120" y="3633840"/>
            <a:ext cx="5176800" cy="1211040"/>
          </a:xfrm>
          <a:prstGeom prst="ellipse">
            <a:avLst/>
          </a:prstGeom>
          <a:solidFill>
            <a:srgbClr val="9c9cd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nettore 1 18"/>
          <p:cNvSpPr/>
          <p:nvPr/>
        </p:nvSpPr>
        <p:spPr>
          <a:xfrm>
            <a:off x="3455280" y="938160"/>
            <a:ext cx="1116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320760" y="158760"/>
            <a:ext cx="8823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om VELA sample to an integrated set of sample data: micro-integration VELA / OR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M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2476440" y="1558800"/>
            <a:ext cx="1943280" cy="1587600"/>
          </a:xfrm>
          <a:prstGeom prst="rect">
            <a:avLst/>
          </a:prstGeom>
          <a:solidFill>
            <a:srgbClr val="9c9cd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VE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(edited us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RO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4430880" y="1558800"/>
            <a:ext cx="2006280" cy="1575000"/>
          </a:xfrm>
          <a:prstGeom prst="rect">
            <a:avLst/>
          </a:prstGeom>
          <a:solidFill>
            <a:srgbClr val="9c9cd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VE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6435720" y="1557360"/>
            <a:ext cx="2006640" cy="1576440"/>
          </a:xfrm>
          <a:prstGeom prst="rect">
            <a:avLst/>
          </a:prstGeom>
          <a:solidFill>
            <a:srgbClr val="9c9cd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rom VE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494080" y="1068480"/>
          <a:ext cx="5925960" cy="365040"/>
        </p:xfrm>
        <a:graphic>
          <a:graphicData uri="http://schemas.openxmlformats.org/drawingml/2006/table">
            <a:tbl>
              <a:tblPr/>
              <a:tblGrid>
                <a:gridCol w="1973160"/>
                <a:gridCol w="1974960"/>
                <a:gridCol w="197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Rettangolo 20"/>
          <p:cNvSpPr/>
          <p:nvPr/>
        </p:nvSpPr>
        <p:spPr>
          <a:xfrm>
            <a:off x="582480" y="3795840"/>
            <a:ext cx="825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ELA small and medium respon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plays a role i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ing and imput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number of Jobs through the comparison with the OROS variab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-23760" y="205092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-499 fi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VELA respondent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ccia in giù 23"/>
          <p:cNvSpPr/>
          <p:nvPr/>
        </p:nvSpPr>
        <p:spPr>
          <a:xfrm>
            <a:off x="4060800" y="4287960"/>
            <a:ext cx="630360" cy="46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7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arentesi graffa aperta 14"/>
          <p:cNvSpPr/>
          <p:nvPr/>
        </p:nvSpPr>
        <p:spPr>
          <a:xfrm>
            <a:off x="2125800" y="1555920"/>
            <a:ext cx="344520" cy="1579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8640 h 1579320"/>
              <a:gd name="textAreaBottom" fmla="*/ 1570680 h 157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3"/>
                </a:cubicBezTo>
                <a:lnTo>
                  <a:pt x="10800" y="10407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3"/>
                </a:cubicBezTo>
                <a:lnTo>
                  <a:pt x="10800" y="21207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1622520" y="228600"/>
            <a:ext cx="6976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&amp;I of VELA Jobs for small/medium enter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8"/>
          <p:cNvSpPr/>
          <p:nvPr/>
        </p:nvSpPr>
        <p:spPr>
          <a:xfrm>
            <a:off x="1246320" y="950760"/>
            <a:ext cx="76248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>
              <a:lnSpc>
                <a:spcPct val="100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On the basis of OROS jobs through a deterministic record link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identification of large differences </a:t>
            </a: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(a variant of the resistant fences method) within classes by economic activity and turnover*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interactive checks </a:t>
            </a: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for records above/upper established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ot deck nearest neighbor donor imputation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or </a:t>
            </a: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records between the fences and the threshold not passing the automatic che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0" y="7383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1066680" y="7318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asellaDiTesto 9"/>
          <p:cNvSpPr/>
          <p:nvPr/>
        </p:nvSpPr>
        <p:spPr>
          <a:xfrm>
            <a:off x="2101680" y="5433840"/>
            <a:ext cx="59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* Definition differences in the two sources and Oros measurement errors have to be consid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1343160" y="324000"/>
            <a:ext cx="7256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grossing up of VELA+LES data on JV and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8"/>
          <p:cNvSpPr/>
          <p:nvPr/>
        </p:nvSpPr>
        <p:spPr>
          <a:xfrm>
            <a:off x="1812960" y="1068480"/>
            <a:ext cx="66214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2073240" y="2603520"/>
            <a:ext cx="1638360" cy="171432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ampl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6261120" y="2629080"/>
            <a:ext cx="2184480" cy="33400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icro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(10-4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48520" y="1244520"/>
            <a:ext cx="219708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icro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(500+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4043520" y="3098880"/>
            <a:ext cx="16128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libration to jobs known to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2073240" y="1200240"/>
            <a:ext cx="1638360" cy="140472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LA/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icro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936960" y="1905120"/>
            <a:ext cx="180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it we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Connettore 2 20"/>
          <p:cNvCxnSpPr/>
          <p:nvPr/>
        </p:nvCxnSpPr>
        <p:spPr>
          <a:xfrm flipV="1">
            <a:off x="3859200" y="1828080"/>
            <a:ext cx="2031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Connettore 2 22"/>
          <p:cNvCxnSpPr/>
          <p:nvPr/>
        </p:nvCxnSpPr>
        <p:spPr>
          <a:xfrm flipV="1">
            <a:off x="3798360" y="3085560"/>
            <a:ext cx="203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97" name=""/>
          <p:cNvGraphicFramePr/>
          <p:nvPr/>
        </p:nvGraphicFramePr>
        <p:xfrm>
          <a:off x="1282680" y="1224000"/>
          <a:ext cx="706320" cy="4748040"/>
        </p:xfrm>
        <a:graphic>
          <a:graphicData uri="http://schemas.openxmlformats.org/drawingml/2006/table">
            <a:tbl>
              <a:tblPr/>
              <a:tblGrid>
                <a:gridCol w="70632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99" name="Line 3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"/>
          <p:cNvSpPr/>
          <p:nvPr/>
        </p:nvSpPr>
        <p:spPr>
          <a:xfrm>
            <a:off x="1422360" y="1030320"/>
            <a:ext cx="699300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11111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The known totals of the auxiliary variable are based on the OROS microdata for firms with 10-499 employees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111111"/>
                </a:solidFill>
                <a:latin typeface="Arial"/>
              </a:rPr>
              <a:t>adjusted to incorporates the macro correction needed because of admin late reporter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1111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1111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The calibration procedure is performed within cells defined by economic activity and firm si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111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the direct weight is the inverse of the inclusion probability multiplied by the response rate for the units belonging to the non-LES po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1530360" y="314280"/>
            <a:ext cx="713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ibration of VELA small-medium enter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4"/>
          <p:cNvSpPr/>
          <p:nvPr/>
        </p:nvSpPr>
        <p:spPr>
          <a:xfrm>
            <a:off x="1978200" y="324000"/>
            <a:ext cx="6823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CI – the role of the three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1219320" y="2454120"/>
            <a:ext cx="760572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1111"/>
                </a:solidFill>
                <a:latin typeface="Arial"/>
              </a:rPr>
              <a:t>jLC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 = per capita Labour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1111"/>
                </a:solidFill>
                <a:latin typeface="Arial"/>
              </a:rPr>
              <a:t>jHW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= per capita Hours Worked (*forcast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1111"/>
                </a:solidFill>
                <a:latin typeface="Arial"/>
              </a:rPr>
              <a:t>J  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 = j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Then to compile the LC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hourly labour cost is divided by the annual average of the same indicator calculated in the base year to obtain the inde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nnually chain-lin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550880" y="1073160"/>
                <a:ext cx="6782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urlyLabourCost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L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O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S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O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S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H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L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S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/>
                            </m:sSup>
                          </m:sup>
                        </m:sSubSup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RO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S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"/>
          <p:cNvSpPr/>
          <p:nvPr/>
        </p:nvSpPr>
        <p:spPr>
          <a:xfrm>
            <a:off x="1978200" y="217440"/>
            <a:ext cx="662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luding remarks 1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903240" cy="68659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1112760" y="903240"/>
            <a:ext cx="77821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ngoing improvements in the system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starting from 2012 Job Vacancy questions will be include in the LES questionn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reduction of the statistical burden on large firms (no more the VELA questionnair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financial savings for the Italian NS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higher data quality for smaller need of micro integration of VELA sample data and LES experts E&amp;I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OROS survey experimentations on micro imputation of late admin repor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higher quality of micro data used for E&amp;I of VELA Jobs and in the reweighting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0" y="76212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88840" y="7556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978200" y="1224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luding remarks 2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8"/>
          <p:cNvSpPr/>
          <p:nvPr/>
        </p:nvSpPr>
        <p:spPr>
          <a:xfrm>
            <a:off x="1163520" y="760320"/>
            <a:ext cx="769464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hallen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widening the coverage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(to P-S for instance) </a:t>
            </a:r>
            <a:r>
              <a:rPr b="0" lang="en-US" sz="2400" spc="-1" strike="noStrike">
                <a:solidFill>
                  <a:srgbClr val="11111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the rules of each survey may impose constraints in enlarging its scope in the short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revisions</a:t>
            </a:r>
            <a:r>
              <a:rPr b="0" i="1" lang="en-US" sz="2400" spc="-1" strike="noStrike">
                <a:solidFill>
                  <a:srgbClr val="111111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imply a strong coordination among the surveys (domino effec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vailability of </a:t>
            </a: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new administrative data at employee level with a good timeliness</a:t>
            </a:r>
            <a:r>
              <a:rPr b="0" i="1" lang="en-US" sz="2400" spc="-1" strike="noStrike">
                <a:solidFill>
                  <a:srgbClr val="111111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111111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xploiting the possibility of a yearly virtual business census reducing the delay of some statistical register (Business Regist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redesign of the sample survey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1111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11111"/>
                </a:solidFill>
                <a:latin typeface="Arial"/>
              </a:rPr>
              <a:t>general reorganization of the system describ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1063800" y="6442200"/>
            <a:ext cx="600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2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0" y="61920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"/>
          <p:cNvSpPr/>
          <p:nvPr/>
        </p:nvSpPr>
        <p:spPr>
          <a:xfrm>
            <a:off x="1066680" y="61272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4932360" y="1282680"/>
            <a:ext cx="39387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6" name="Line 3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795240" cy="686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181160" y="1033560"/>
            <a:ext cx="56116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EU Regulations (quarterly releases)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Short Term Statistics (STS - 1998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Number of J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Per capita Hours Wor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Gross Wages and sal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abour Cost Index (LCI  -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Hourly Labour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Job Vacancy (JV – 2008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Job Vacancy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ational rele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onth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Quarter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452600" y="247680"/>
            <a:ext cx="7405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GB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Italian labour market short-ter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siness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804960" y="838080"/>
            <a:ext cx="8076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159680" y="863640"/>
            <a:ext cx="1878120" cy="54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ays of delay from reference quarter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45 and 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7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LateraleLogoPerPpt"/>
          <p:cNvPicPr/>
          <p:nvPr/>
        </p:nvPicPr>
        <p:blipFill>
          <a:blip r:embed="rId1"/>
          <a:srcRect l="32473" t="18527" r="0" b="6011"/>
          <a:stretch/>
        </p:blipFill>
        <p:spPr>
          <a:xfrm>
            <a:off x="-4680" y="0"/>
            <a:ext cx="108432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Logo a colori"/>
          <p:cNvPicPr/>
          <p:nvPr/>
        </p:nvPicPr>
        <p:blipFill>
          <a:blip r:embed="rId2"/>
          <a:stretch/>
        </p:blipFill>
        <p:spPr>
          <a:xfrm>
            <a:off x="16200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3743280" y="3871800"/>
            <a:ext cx="48690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ilvia Paci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acini@istat.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946160" y="2327400"/>
            <a:ext cx="6851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2178000" y="6426360"/>
            <a:ext cx="600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2413080" y="365040"/>
            <a:ext cx="553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Snet Data Integration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15960" y="2649600"/>
          <a:ext cx="6913800" cy="396720"/>
        </p:xfrm>
        <a:graphic>
          <a:graphicData uri="http://schemas.openxmlformats.org/drawingml/2006/table">
            <a:tbl>
              <a:tblPr/>
              <a:tblGrid>
                <a:gridCol w="2557440"/>
                <a:gridCol w="2049480"/>
                <a:gridCol w="230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25400" y="3162240"/>
          <a:ext cx="747720" cy="3497400"/>
        </p:xfrm>
        <a:graphic>
          <a:graphicData uri="http://schemas.openxmlformats.org/drawingml/2006/table">
            <a:tbl>
              <a:tblPr/>
              <a:tblGrid>
                <a:gridCol w="747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961920" y="162000"/>
            <a:ext cx="7210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sources and the main output variables…..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1531800" y="3146400"/>
            <a:ext cx="4608720" cy="69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3880" y="642960"/>
          <a:ext cx="8528040" cy="1427040"/>
        </p:xfrm>
        <a:graphic>
          <a:graphicData uri="http://schemas.openxmlformats.org/drawingml/2006/table">
            <a:tbl>
              <a:tblPr/>
              <a:tblGrid>
                <a:gridCol w="2484720"/>
                <a:gridCol w="2896920"/>
                <a:gridCol w="314640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opul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(since 1975)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ly survey on Large Enterpris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s with 500+ employees in base year NACE B-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nel: complete population in base yea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83" name="Connettore 1 18"/>
          <p:cNvSpPr/>
          <p:nvPr/>
        </p:nvSpPr>
        <p:spPr>
          <a:xfrm flipH="1">
            <a:off x="3181320" y="26622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47720" y="3184560"/>
          <a:ext cx="747720" cy="3448080"/>
        </p:xfrm>
        <a:graphic>
          <a:graphicData uri="http://schemas.openxmlformats.org/drawingml/2006/table">
            <a:tbl>
              <a:tblPr/>
              <a:tblGrid>
                <a:gridCol w="747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27"/>
          <p:cNvSpPr/>
          <p:nvPr/>
        </p:nvSpPr>
        <p:spPr>
          <a:xfrm>
            <a:off x="1566720" y="3182760"/>
            <a:ext cx="2249640" cy="3467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961920" y="127080"/>
            <a:ext cx="7210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sources and the main output variables…..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554120" y="3170160"/>
            <a:ext cx="4537080" cy="689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3880" y="596880"/>
          <a:ext cx="8528040" cy="1706760"/>
        </p:xfrm>
        <a:graphic>
          <a:graphicData uri="http://schemas.openxmlformats.org/drawingml/2006/table">
            <a:tbl>
              <a:tblPr/>
              <a:tblGrid>
                <a:gridCol w="2721240"/>
                <a:gridCol w="2387520"/>
                <a:gridCol w="341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opul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OS (since 2000)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ly survey on Employment, Wages and Total Labour Cos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s with 1+ employe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E B-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population: based on administrative data (monthly compulsory social contributions declaration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94" name="Connettore 1 18"/>
          <p:cNvSpPr/>
          <p:nvPr/>
        </p:nvSpPr>
        <p:spPr>
          <a:xfrm flipH="1">
            <a:off x="3182400" y="2637000"/>
            <a:ext cx="180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04800" y="2635200"/>
          <a:ext cx="6913800" cy="397080"/>
        </p:xfrm>
        <a:graphic>
          <a:graphicData uri="http://schemas.openxmlformats.org/drawingml/2006/table">
            <a:tbl>
              <a:tblPr/>
              <a:tblGrid>
                <a:gridCol w="2557440"/>
                <a:gridCol w="2049480"/>
                <a:gridCol w="230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670040" y="95400"/>
            <a:ext cx="66214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47720" y="3260880"/>
          <a:ext cx="747720" cy="3414600"/>
        </p:xfrm>
        <a:graphic>
          <a:graphicData uri="http://schemas.openxmlformats.org/drawingml/2006/table">
            <a:tbl>
              <a:tblPr/>
              <a:tblGrid>
                <a:gridCol w="747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7"/>
          <p:cNvSpPr/>
          <p:nvPr/>
        </p:nvSpPr>
        <p:spPr>
          <a:xfrm>
            <a:off x="1584360" y="3254400"/>
            <a:ext cx="2232000" cy="34084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1332000" y="59040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6076800" y="3225960"/>
            <a:ext cx="2390760" cy="7128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348000" y="18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961920" y="55440"/>
            <a:ext cx="7210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sources and the main output variables…..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1554120" y="3230640"/>
            <a:ext cx="4537080" cy="71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8360" y="536400"/>
          <a:ext cx="8826480" cy="1828800"/>
        </p:xfrm>
        <a:graphic>
          <a:graphicData uri="http://schemas.openxmlformats.org/drawingml/2006/table">
            <a:tbl>
              <a:tblPr/>
              <a:tblGrid>
                <a:gridCol w="2579760"/>
                <a:gridCol w="2162160"/>
                <a:gridCol w="4084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opul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our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LA (since 2003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erly Vacancy and Hours Worked surv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s with 10+ employees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E B-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survey: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+ take all (1,50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-499 stratified random sample 1/3 rotated once a yea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107" name="Connettore 1 18"/>
          <p:cNvSpPr/>
          <p:nvPr/>
        </p:nvSpPr>
        <p:spPr>
          <a:xfrm flipH="1">
            <a:off x="3146400" y="27018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515960" y="2693880"/>
          <a:ext cx="6913800" cy="397080"/>
        </p:xfrm>
        <a:graphic>
          <a:graphicData uri="http://schemas.openxmlformats.org/drawingml/2006/table">
            <a:tbl>
              <a:tblPr/>
              <a:tblGrid>
                <a:gridCol w="2557440"/>
                <a:gridCol w="2049480"/>
                <a:gridCol w="230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  Cost   Job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s Work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Vacanc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Ovale 16"/>
          <p:cNvSpPr/>
          <p:nvPr/>
        </p:nvSpPr>
        <p:spPr>
          <a:xfrm>
            <a:off x="3241800" y="4346640"/>
            <a:ext cx="5202000" cy="1211040"/>
          </a:xfrm>
          <a:prstGeom prst="ellipse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2" name="Line 3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441440" y="985680"/>
            <a:ext cx="6993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he three sources have been integra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(partially ex-ante, mainly ex-p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Arial"/>
              </a:rPr>
              <a:t>to get to a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LES+OROS+VELA system producing consistent quarterly estimates on 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Jobs, Wages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Labour Costs, Hours Worked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and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Job Vacancies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on the population of firms with at least one employee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11111"/>
                </a:solidFill>
                <a:latin typeface="Arial"/>
              </a:rPr>
              <a:t>**statistics on Job Vacancies and Hours Worked limited to firms with at least 10 employees for budget constraints</a:t>
            </a:r>
            <a:r>
              <a:rPr b="0" i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530360" y="314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aim of the inte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4465800" y="1722600"/>
            <a:ext cx="664920" cy="355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66680" y="482760"/>
            <a:ext cx="8797680" cy="6375240"/>
            <a:chOff x="166680" y="482760"/>
            <a:chExt cx="8797680" cy="6375240"/>
          </a:xfrm>
        </p:grpSpPr>
        <p:sp>
          <p:nvSpPr>
            <p:cNvPr id="121" name="AutoShape 3"/>
            <p:cNvSpPr/>
            <p:nvPr/>
          </p:nvSpPr>
          <p:spPr>
            <a:xfrm>
              <a:off x="166680" y="482760"/>
              <a:ext cx="8740800" cy="63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"/>
            <p:cNvSpPr/>
            <p:nvPr/>
          </p:nvSpPr>
          <p:spPr>
            <a:xfrm>
              <a:off x="7005600" y="5451480"/>
              <a:ext cx="1260360" cy="58752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4114440" y="1953000"/>
              <a:ext cx="900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1946880" y="4363920"/>
              <a:ext cx="2709720" cy="6206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3578400" y="3675240"/>
              <a:ext cx="10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1405080" y="5356800"/>
              <a:ext cx="1245240" cy="70920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3039840" y="3875400"/>
              <a:ext cx="2158920" cy="37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Macro adjustm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 flipV="1">
              <a:off x="5379480" y="3512880"/>
              <a:ext cx="722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4"/>
            <p:cNvSpPr/>
            <p:nvPr/>
          </p:nvSpPr>
          <p:spPr>
            <a:xfrm>
              <a:off x="6282720" y="3253320"/>
              <a:ext cx="216756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cord linkage, microintegration, E&amp;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7367040" y="1953000"/>
              <a:ext cx="720" cy="12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7628760" y="4520880"/>
              <a:ext cx="11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7123680" y="5558040"/>
              <a:ext cx="10839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JVs: q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H="1">
              <a:off x="7727760" y="5132520"/>
              <a:ext cx="108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>
              <a:off x="7547400" y="3796560"/>
              <a:ext cx="3312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471880" y="1214640"/>
              <a:ext cx="5760" cy="5361120"/>
            </a:xfrm>
            <a:prstGeom prst="pie">
              <a:avLst/>
            </a:pr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 flipV="1">
              <a:off x="8470800" y="2211120"/>
              <a:ext cx="70920" cy="36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2"/>
            <p:cNvSpPr/>
            <p:nvPr/>
          </p:nvSpPr>
          <p:spPr>
            <a:xfrm>
              <a:off x="8578080" y="2049840"/>
              <a:ext cx="335160" cy="38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58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3"/>
            <p:cNvSpPr/>
            <p:nvPr/>
          </p:nvSpPr>
          <p:spPr>
            <a:xfrm>
              <a:off x="8618400" y="3331080"/>
              <a:ext cx="24444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6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V="1">
              <a:off x="8450640" y="1243440"/>
              <a:ext cx="70920" cy="36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8487720" y="3462480"/>
              <a:ext cx="70920" cy="7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V="1">
              <a:off x="8467920" y="4293720"/>
              <a:ext cx="70920" cy="36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 flipV="1">
              <a:off x="8474040" y="5729760"/>
              <a:ext cx="70920" cy="72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8591040" y="4143240"/>
              <a:ext cx="37332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6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9"/>
            <p:cNvSpPr/>
            <p:nvPr/>
          </p:nvSpPr>
          <p:spPr>
            <a:xfrm>
              <a:off x="6282720" y="6150240"/>
              <a:ext cx="1625760" cy="62784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0"/>
            <p:cNvSpPr/>
            <p:nvPr/>
          </p:nvSpPr>
          <p:spPr>
            <a:xfrm>
              <a:off x="6081120" y="6195240"/>
              <a:ext cx="204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ours Worked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1"/>
            <p:cNvSpPr/>
            <p:nvPr/>
          </p:nvSpPr>
          <p:spPr>
            <a:xfrm flipV="1">
              <a:off x="8470800" y="5151600"/>
              <a:ext cx="70920" cy="36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8562240" y="5584680"/>
              <a:ext cx="351000" cy="39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3"/>
            <p:cNvSpPr/>
            <p:nvPr/>
          </p:nvSpPr>
          <p:spPr>
            <a:xfrm>
              <a:off x="8587440" y="5000760"/>
              <a:ext cx="361080" cy="43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6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4"/>
            <p:cNvSpPr/>
            <p:nvPr/>
          </p:nvSpPr>
          <p:spPr>
            <a:xfrm>
              <a:off x="8575200" y="6428520"/>
              <a:ext cx="260640" cy="4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3300"/>
                  </a:solidFill>
                  <a:latin typeface="Times New Roman"/>
                </a:rPr>
                <a:t>7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 flipV="1">
              <a:off x="8479800" y="6574680"/>
              <a:ext cx="70920" cy="36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6824880" y="5073120"/>
              <a:ext cx="1080" cy="11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 flipV="1">
              <a:off x="5921640" y="5924160"/>
              <a:ext cx="294840" cy="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 flipV="1">
              <a:off x="6282720" y="6065640"/>
              <a:ext cx="294840" cy="7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9"/>
            <p:cNvSpPr/>
            <p:nvPr/>
          </p:nvSpPr>
          <p:spPr>
            <a:xfrm>
              <a:off x="3211560" y="5215320"/>
              <a:ext cx="1083960" cy="56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32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Forecast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HW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0"/>
            <p:cNvSpPr/>
            <p:nvPr/>
          </p:nvSpPr>
          <p:spPr>
            <a:xfrm>
              <a:off x="2052360" y="4505760"/>
              <a:ext cx="1158840" cy="44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Total labour cost: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1"/>
            <p:cNvSpPr/>
            <p:nvPr/>
          </p:nvSpPr>
          <p:spPr>
            <a:xfrm>
              <a:off x="3144600" y="2993760"/>
              <a:ext cx="2234880" cy="752400"/>
            </a:xfrm>
            <a:prstGeom prst="can">
              <a:avLst>
                <a:gd name="adj" fmla="val 25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2"/>
            <p:cNvSpPr/>
            <p:nvPr/>
          </p:nvSpPr>
          <p:spPr>
            <a:xfrm>
              <a:off x="3246840" y="3205800"/>
              <a:ext cx="19519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OROS + LES 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3"/>
            <p:cNvSpPr/>
            <p:nvPr/>
          </p:nvSpPr>
          <p:spPr>
            <a:xfrm>
              <a:off x="501840" y="1402200"/>
              <a:ext cx="2075400" cy="1026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4"/>
            <p:cNvSpPr/>
            <p:nvPr/>
          </p:nvSpPr>
          <p:spPr>
            <a:xfrm>
              <a:off x="631440" y="1705680"/>
              <a:ext cx="1770480" cy="8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Monthly survey dat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, m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, m</a:t>
              </a:r>
              <a:r>
                <a:rPr b="0" i="1" lang="en-GB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5"/>
            <p:cNvSpPr/>
            <p:nvPr/>
          </p:nvSpPr>
          <p:spPr>
            <a:xfrm>
              <a:off x="3171600" y="2236680"/>
              <a:ext cx="2207880" cy="5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Record linkage and microintegr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2459880" y="241308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2469960" y="2644560"/>
              <a:ext cx="68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8"/>
            <p:cNvSpPr/>
            <p:nvPr/>
          </p:nvSpPr>
          <p:spPr>
            <a:xfrm>
              <a:off x="3031200" y="862200"/>
              <a:ext cx="2348280" cy="1127520"/>
            </a:xfrm>
            <a:prstGeom prst="can">
              <a:avLst>
                <a:gd name="adj" fmla="val 25000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9"/>
            <p:cNvSpPr/>
            <p:nvPr/>
          </p:nvSpPr>
          <p:spPr>
            <a:xfrm>
              <a:off x="3031200" y="1243800"/>
              <a:ext cx="23482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Admin monthly data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</a:rPr>
                <a:t>q,  q-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50"/>
            <p:cNvSpPr/>
            <p:nvPr/>
          </p:nvSpPr>
          <p:spPr>
            <a:xfrm>
              <a:off x="6282000" y="1081440"/>
              <a:ext cx="2062440" cy="977760"/>
            </a:xfrm>
            <a:prstGeom prst="can">
              <a:avLst>
                <a:gd name="adj" fmla="val 25000"/>
              </a:avLst>
            </a:prstGeom>
            <a:solidFill>
              <a:srgbClr val="9c9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1"/>
            <p:cNvSpPr/>
            <p:nvPr/>
          </p:nvSpPr>
          <p:spPr>
            <a:xfrm>
              <a:off x="6282720" y="1396440"/>
              <a:ext cx="19540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Quarterly data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2"/>
            <p:cNvSpPr/>
            <p:nvPr/>
          </p:nvSpPr>
          <p:spPr>
            <a:xfrm>
              <a:off x="6377400" y="3960720"/>
              <a:ext cx="1983960" cy="600480"/>
            </a:xfrm>
            <a:prstGeom prst="can">
              <a:avLst>
                <a:gd name="adj" fmla="val 25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3"/>
            <p:cNvSpPr/>
            <p:nvPr/>
          </p:nvSpPr>
          <p:spPr>
            <a:xfrm>
              <a:off x="6463440" y="4020480"/>
              <a:ext cx="1751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VELA+L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4"/>
            <p:cNvSpPr/>
            <p:nvPr/>
          </p:nvSpPr>
          <p:spPr>
            <a:xfrm>
              <a:off x="3466440" y="4441320"/>
              <a:ext cx="1154160" cy="522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Jobs: q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>
              <a:off x="3411360" y="4365000"/>
              <a:ext cx="720" cy="598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6"/>
            <p:cNvSpPr/>
            <p:nvPr/>
          </p:nvSpPr>
          <p:spPr>
            <a:xfrm>
              <a:off x="3576960" y="4250520"/>
              <a:ext cx="108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>
              <a:off x="2308320" y="5073120"/>
              <a:ext cx="72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4656960" y="4647960"/>
              <a:ext cx="16257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9"/>
            <p:cNvSpPr/>
            <p:nvPr/>
          </p:nvSpPr>
          <p:spPr>
            <a:xfrm flipV="1">
              <a:off x="4295520" y="5356800"/>
              <a:ext cx="361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0"/>
            <p:cNvSpPr/>
            <p:nvPr/>
          </p:nvSpPr>
          <p:spPr>
            <a:xfrm>
              <a:off x="4114800" y="2804040"/>
              <a:ext cx="180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1585800" y="5498640"/>
              <a:ext cx="103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LCI: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2"/>
            <p:cNvSpPr/>
            <p:nvPr/>
          </p:nvSpPr>
          <p:spPr>
            <a:xfrm>
              <a:off x="6282720" y="4680720"/>
              <a:ext cx="1986840" cy="44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Grossing u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3"/>
            <p:cNvSpPr/>
            <p:nvPr/>
          </p:nvSpPr>
          <p:spPr>
            <a:xfrm>
              <a:off x="4656960" y="5073120"/>
              <a:ext cx="1445040" cy="709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4"/>
            <p:cNvSpPr/>
            <p:nvPr/>
          </p:nvSpPr>
          <p:spPr>
            <a:xfrm>
              <a:off x="4656960" y="5215320"/>
              <a:ext cx="126468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Hours Worked: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5"/>
            <p:cNvSpPr/>
            <p:nvPr/>
          </p:nvSpPr>
          <p:spPr>
            <a:xfrm>
              <a:off x="503640" y="2694240"/>
              <a:ext cx="1804320" cy="694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6"/>
            <p:cNvSpPr/>
            <p:nvPr/>
          </p:nvSpPr>
          <p:spPr>
            <a:xfrm>
              <a:off x="682560" y="2804040"/>
              <a:ext cx="13939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GI indicator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(i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67"/>
            <p:cNvSpPr/>
            <p:nvPr/>
          </p:nvSpPr>
          <p:spPr>
            <a:xfrm>
              <a:off x="1405080" y="2378520"/>
              <a:ext cx="72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8"/>
            <p:cNvSpPr/>
            <p:nvPr/>
          </p:nvSpPr>
          <p:spPr>
            <a:xfrm flipV="1">
              <a:off x="2669760" y="5640120"/>
              <a:ext cx="541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1221480" y="1319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L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614040" y="79236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ORO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6846480" y="9932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VE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33"/>
          <p:cNvSpPr/>
          <p:nvPr/>
        </p:nvSpPr>
        <p:spPr>
          <a:xfrm>
            <a:off x="938160" y="23760"/>
            <a:ext cx="7210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integration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0"/>
          <p:cNvSpPr/>
          <p:nvPr/>
        </p:nvSpPr>
        <p:spPr>
          <a:xfrm>
            <a:off x="7896240" y="0"/>
            <a:ext cx="12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rom the reference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71"/>
          <p:cNvSpPr/>
          <p:nvPr/>
        </p:nvSpPr>
        <p:spPr>
          <a:xfrm>
            <a:off x="8812080" y="1746360"/>
            <a:ext cx="43812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Logo a colori"/>
          <p:cNvPicPr/>
          <p:nvPr/>
        </p:nvPicPr>
        <p:blipFill>
          <a:blip r:embed="rId1"/>
          <a:stretch/>
        </p:blipFill>
        <p:spPr>
          <a:xfrm>
            <a:off x="787716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91" name="Line 3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LateraleLogoPerPpt"/>
          <p:cNvPicPr/>
          <p:nvPr/>
        </p:nvPicPr>
        <p:blipFill>
          <a:blip r:embed="rId2"/>
          <a:srcRect l="32473" t="18529" r="0" b="6010"/>
          <a:stretch/>
        </p:blipFill>
        <p:spPr>
          <a:xfrm>
            <a:off x="0" y="0"/>
            <a:ext cx="1082520" cy="6865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228680" y="1243080"/>
            <a:ext cx="77058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buClr>
                <a:srgbClr val="c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ROS+LES </a:t>
            </a:r>
            <a:r>
              <a:rPr b="1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complete quarterly up-to-date population frame of all firms with employees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Hours Worked and Job Vaca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11111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111111"/>
                </a:solidFill>
                <a:latin typeface="Arial"/>
              </a:rPr>
              <a:t>Substantial  improvement in short-term statistics since the Business Register has a delay of 15-24 months from the current quarter implying difficulties in measuring business demograp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ource of information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Jobs, Wages and Other Labour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LA+LES </a:t>
            </a:r>
            <a:r>
              <a:rPr b="1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an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integrated sample based source of information on Job Vacancies and Hours Wor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2560" y="6531120"/>
            <a:ext cx="736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ESSnet Data Integration Workshop -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Madrid, 24-25 November 201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530360" y="314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illars of the LES+OROS+VEL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0" y="84456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tabanell</dc:creator>
  <dc:description/>
  <dc:language>en-US</dc:language>
  <cp:lastModifiedBy>MARIO</cp:lastModifiedBy>
  <dcterms:modified xsi:type="dcterms:W3CDTF">2011-11-25T07:40:50Z</dcterms:modified>
  <cp:revision>1463</cp:revision>
  <dc:subject/>
  <dc:title>Diapositiva 1</dc:title>
</cp:coreProperties>
</file>