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153-D390-4ADE-9535-60765D1BEF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wich student said he could go back to his University friends and say that he worked at the Office for National Statistics on making up fictitious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D45-B15D-403B-AC3F-6961FD4A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E88-7EC7-4797-BC33-FF134A8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B8F-39C3-45C7-86ED-266E9E4C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3CE-3669-46C3-89FF-924D3173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0EC5-1104-43EF-8FB9-75D31BAC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99AE-A561-49E4-9E46-56EC86D3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B279-A8D5-4BFE-B61A-2357C38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516-853C-42F0-B9E1-915D69FE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B7C-C988-4E5E-B42B-C91E729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8611-F327-48BC-9F68-FCFA588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3AA-6B43-4BD0-837D-41813C1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C83-1FE5-4631-A02A-C7DB09F1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844-4350-4CFD-A898-3DDB4DA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E883-B9E7-406A-8627-4144070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1EF-F2B9-4BB0-B263-32AC125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0D9-DE68-43F9-B84C-D7814E42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9814-AC8A-43DD-8E9D-1AF2B124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6D0-D6FA-4F90-88EC-856A316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DA3-35D5-472C-8AFB-E4463DE8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D9F-077F-4C92-B27C-AD98FD7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30A-F820-4E78-B9E5-ED3906B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5B4-41D4-438E-85CE-3F7DF5F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9F4-0432-4F76-AC01-2A36543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63F-59DE-415F-81E9-E66C703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d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A04-8983-4050-BEDE-5B7727D65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C0F-7A43-4D73-82A3-5A344BA70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10001" t="19984" r="10001" b="19984"/>
          <a:stretch/>
        </p:blipFill>
        <p:spPr>
          <a:xfrm>
            <a:off x="152280" y="228600"/>
            <a:ext cx="3810240" cy="143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d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tions of record linkage to population statistics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k Hea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for Nation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ministrative data quality issu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ographical errors in nam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rregular updating of CI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ssing valu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lues which should be missing but aren’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ault postcodes at point of collec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ault dates of birth at 1 Januar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these through frequency distributi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erse imputation!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k for the Beyond 2011 Programm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 into record linkage method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views of best pract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ord linkage literatur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lutions implemented by the softwar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eriments using synthetic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ssing valu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treatment in probabilistic method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ve the variable out of the computation of the total weigh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ds to a more fine-grained set of scor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natively, a user-specified agreement status may be allocated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itional Independence Assumptio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IA nearly always violated in practic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sensitivity of the matching result?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lems arise when correlations are lar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eet name, postcode, distric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cted and actual date of child’s birth (in perinatal data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works fairly well in less extreme cas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ong dependencies in matching variables to be avoided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ynthetic data – “truth” data se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postcode districts, generat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codes, streets, house numbers, family name, household siz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households, generat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mily structure, sex, given names, dates of birth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exibility to add extra structure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parate ethniciti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ional effects on nam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family names at same addres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ariations on “truth” data se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ata sets used in linkage experiments with IDs retained so true &amp; false links can be determined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subsets (e.g. 95%, 90%) of truth set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32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dded noise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ssing value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ypographical error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icknames and diminutive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ording errors in date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version to maiden name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550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dependency between variables</a:t>
            </a:r>
            <a:endParaRPr b="0" lang="en-US" sz="22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ule-based matching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Link made if any one of a number of conditions is satisfied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tivation (ONS, Relais)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 simple system of allocated scores to each variable will work at least as well?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Yes, if the CIA is satisfied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, under extreme conditions of dependence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ynthetic data sets offer a test bed for conditions likely to occur in practice 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ule-based and score-based matching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523880"/>
          <a:ext cx="7772400" cy="4380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le-based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784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ore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ore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784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eshold = 6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eshold = 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u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5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4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eme refined and improved from the first version tr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Note this is a later version than that shown in the workshop 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d with added dependenci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 new version of synthetic data with added dependencies, mainly in the non-match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data sets were slightly smaller so there will be fewer match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3213000"/>
          <a:ext cx="7772400" cy="2586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ule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784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ore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ore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784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eshold 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eshold =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u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4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lse mat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,9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tching with allocated scor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sed in the above to compare with rule-based matching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ights initially specified by user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ethods proposed to tune the weights using the data (e.g. FRIL software)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ntribution provided by disagreement is zero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ain advantage proposed is that weight can be multiplied by standardised comparison metric on the [0,1] scale 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roaches to collecting the data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ditional Censu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g form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sic demographic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ployment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alification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alth &amp; disability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eyond 201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ims to move away from traditional Censu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alternative models…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ministrative data record level mod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pulation spine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sic demographic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verage survey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1" marL="477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variables through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usehold surveys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initial finding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 trial with one pair of synthetic data sets Fellegi-Sunter method performed better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-S has negative disagreement weights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lvl="1" marL="755640" indent="-28296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llocated weights method doesn’t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lvl="1" marL="755640" indent="-28296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negative disagreement weight for a variable with low level of error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lvl="1" marL="755640" indent="-28296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mposes a large penalty</a:t>
            </a:r>
            <a:endParaRPr b="0" lang="en-US" sz="2600" spc="-1" strike="noStrike">
              <a:solidFill>
                <a:srgbClr val="002d4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llocated weights method inferior when:</a:t>
            </a:r>
            <a:endParaRPr b="0" lang="en-US" sz="3000" spc="-1" strike="noStrike">
              <a:solidFill>
                <a:srgbClr val="002d46"/>
              </a:solidFill>
              <a:latin typeface="Arial"/>
            </a:endParaRPr>
          </a:p>
          <a:p>
            <a:pPr lvl="2" marL="1170720" indent="-2260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ome variables are very accurate</a:t>
            </a:r>
            <a:endParaRPr b="0" lang="en-US" sz="2100" spc="-1" strike="noStrike">
              <a:solidFill>
                <a:srgbClr val="002d46"/>
              </a:solidFill>
              <a:latin typeface="Arial"/>
            </a:endParaRPr>
          </a:p>
          <a:p>
            <a:pPr lvl="2" marL="1170720" indent="-22608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issing values are common</a:t>
            </a:r>
            <a:endParaRPr b="0" lang="en-US" sz="21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11 Censu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justment for undercount using Census Coverage Survey (CC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CS is 1 per cent sample of popul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ual System Estimator to estimate coverag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ching CCS to Census must have low levels of matching error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count is estimated by matching the Census database to itself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CS/Census matching overview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chical structur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ch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ch individuals within households (households are the blocks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ch individuals from unmatched household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idual units submitted for clerical review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ed in-house using SA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ular format using macro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clerical matching team with access to images of Census return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utomated CCS/Census matching (1)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pre-imputed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s with missing values in name fields passed straight to final clerical review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eaning and standardisati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ree separate date of birth variabl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ct matching (perfect agreement) firs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abilistic matching on the residu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llegi-Sunter metho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utomated CCS/Census matching (2)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use of training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age re-configured for each local authority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ditional independence assumed throughout: some redundancy avoid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arch space reduction by blocking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im for blocking/matching variables independent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 blocking pass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missing value results in matching variable not being entered for compariso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utomated CCS/Census matching (3)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choice of string comparators availabl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ault is bigram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easily be changed (look at diagnostics)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shold to achieve agree/disagree statu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ameter estimation by EM algorithm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bust to choice of starting value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49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.51 and 0.49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ing with wide clerical review regions, hope to narrow them as process continu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Beyond 2011 Programm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ims to investigate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easibility of improving population statistics in the UK by making use of integrated data sources to replace or complement existing approach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ther alternative data sources can provide the priority statistics on the characteristics of small populations, typically provided by a Censu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ministrative data sourc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 complete population coverage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ient Register Database (PRD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stomer Information System (CIS) (tax and benefit records)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al populations: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grant Worker Scan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school pupil censu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er Education student data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rths, marriages, deaths, electoral rol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25:23Z</dcterms:created>
  <dc:creator>Wayne Bryant</dc:creator>
  <dc:description/>
  <dc:language>en-US</dc:language>
  <cp:lastModifiedBy>heasmr</cp:lastModifiedBy>
  <dcterms:modified xsi:type="dcterms:W3CDTF">2011-11-15T17:43:02Z</dcterms:modified>
  <cp:revision>24</cp:revision>
  <dc:subject/>
  <dc:title>PowerPoint Presentation</dc:title>
</cp:coreProperties>
</file>