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F807C2-64EF-4640-8D2E-0EB3B55C2F1D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8560" y="4684680"/>
            <a:ext cx="493704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4158E1-333D-4B70-B755-7C299CC4AD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8560" y="4684680"/>
            <a:ext cx="493704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-Good mo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-This presentation have two parts, in this first p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I will show you the methodology we have used to provide the PIDN of the surveyed persons in the L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which we use after to cross with other administrative sources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3399"/>
                </a:solidFill>
                <a:latin typeface="Arial"/>
              </a:rPr>
              <a:t>in order to calcule the wages from the main job in the L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D9F50B-1C84-43C3-9D28-CEBECA925B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87BA7A-077E-4B9E-806F-B2D24A0B5F99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After we chech the residence of all these per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If the adresse is the same to the adresse of the selected p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ans this selected person is living together with this human group in the same adres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So, we have a high probability linking this candidate and we could confirm this candate as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C5B6B0-43AF-47F6-A452-9A67A0215B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B03676-13D3-4194-BFB7-60E30A718D93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Of course, we find different situations in the huma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This is why we have develop 4 different Huma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depending in which level we found the probability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So, this is the figure showing this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 level 7 we have some bad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t in level 8 the most part of them are correc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649B07-F4E0-46AF-963F-468958E475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5D925BB-6312-4973-94FA-D6A30C0212E5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This is the final map of the automatic process showing the increase of % in correct linked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reach 95.6% of correct linked persons in 1Q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96% in 2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d the aim is to reach 97-98% in coming quar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0888EF-09AD-4D3D-BD05-19F012B8DA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8A8BD4-59BE-459D-A4E4-F655EFFBDF60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will spend 4 months, perhaps only 2,5 months to complete the whol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cluding preparing and cleaning dat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tomatic search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nk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ually searching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l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560" y="4684680"/>
            <a:ext cx="493704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In this presentation I will show you our experience in the precedent year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ow we make the searching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ow we link the candid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d the main results we hav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9E6545-CB43-40D7-AA1E-EA2E238131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6903F9-C70B-472B-B598-DCC955CB2EDC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In recent years we have experience differents sys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n both searching and linking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But I will explain the current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In this process we use three 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1 are the personal data that it supossed never changes like name, birth date and birth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2 include variables that could change along the life of a person, like 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3 includes the conections with other persons: the Human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use that dimensions in different degr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f we make searchings process or link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84744D-5ECC-4FDF-9E13-26B36EC7AF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8BCDAF-BC56-479E-9E92-A0A17B4D5C7B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For searching persons we confront with the Popul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sing the first two 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built criteria including personal variables in batterie mode (variables of dimension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d some criteria including residence variables in (dimension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This includes searchings in the building with the street-code, searchings in the city and searchings in the count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l of this in paralell mo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obtain a 99% of surveyed persons with some candidate extracted from the Popul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A08938-0DFF-4CB9-9BF2-91B2A1EF83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1D53450-638A-4B6F-8AB2-AB1D432A92B2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hen we receive the database of candidates we make the link po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1.calculating distances of name, birth date,birth place and street 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2.selecting the best candidate of each p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the selection is different depending on the criteria used tho search this per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3.We make a segmentation of these distances maximizing the probabolity gouping b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4.In each level we make an iteration cleaning the database and repeating steps 2 and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5.We select accepted candidates and confirm doubts using in this case the DIMENS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6. We finish searching manually all the rejected per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C25CBF-530F-4483-8BCF-BF0C2C38D3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9FDAB9-4047-43FC-9A4F-403C31DE18DF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The most part of the selected persons are in level 10, a 66%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which means the exact link between the surveyed persons and the Population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accept level 10 and 9, a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reject levels 6 and lower, a 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And the rest 7%, between level 6 and 9 has a very high probability of be th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t we would like to confirm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31506D-15AB-4A59-94CF-571CA995F4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D40E2F-E7F7-45DE-B3BD-A96F9527330E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¿How we confirm this c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As I said with D1 and D2 we have some accepted persons and some persons with dou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We use the third dimension: the human group to confirm every candidate of which we have som dou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B4C841-CDFC-4881-B9BC-5AF72D19D6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59BC34-4236-4213-8820-AF4584A822D4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The first step is extract the IDENTITY GROUP of the person with dou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1744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12B1C1-1A51-40A9-9C24-855DF98F74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93736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1744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C83A8FA-ED39-496B-8991-C4D9CF08BAF5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29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96400" y="468468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Secondly we extract the human group in UPPER levels using this IDENTIT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600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9600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136-C180-4EE1-91C4-3071DDFC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9F5-959D-4210-A097-41FEB50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4F0-FAE2-4E52-A8D0-D26C0198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C61-089C-4DC5-A2A0-6F89581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916-F6D5-4B56-BBB7-ABDAE94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8D5-2E63-4C7C-9762-334F6936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D40-6E60-45CC-BB80-D5FA224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E89-E61D-4BAC-9AD0-6475631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853-02E7-4C11-9E4C-DB912135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0A7-74AA-43B0-BA6A-5BB283F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9D9-FEC8-4182-8748-9BEBD9E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2424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6000" y="121932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5248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2424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896000" y="2094840"/>
            <a:ext cx="14965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173-F858-4533-9F05-8E87FD5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34600" y="209484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34600" y="1219320"/>
            <a:ext cx="226836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2094840"/>
            <a:ext cx="464832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727600" y="828720"/>
            <a:ext cx="3411720" cy="6026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2743200" y="838080"/>
            <a:ext cx="5790960" cy="120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03320" y="4483080"/>
          <a:ext cx="234936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3320" y="4483080"/>
                    <a:ext cx="2349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371600" y="838080"/>
            <a:ext cx="7238880" cy="0"/>
          </a:xfrm>
          <a:prstGeom prst="line">
            <a:avLst/>
          </a:prstGeom>
          <a:ln cap="sq"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470640" y="6210360"/>
            <a:ext cx="267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53E-6419-4C1F-9B32-F04819A511F6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hbueno@ine.es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 Narrow"/>
              </a:rPr>
              <a:t>Session 6:</a:t>
            </a:r>
            <a:br>
              <a:rPr sz="2800"/>
            </a:br>
            <a:r>
              <a:rPr b="1" lang="es-ES" sz="2800" spc="-1" strike="noStrike">
                <a:solidFill>
                  <a:srgbClr val="336699"/>
                </a:solidFill>
                <a:latin typeface="Arial Narrow"/>
              </a:rPr>
              <a:t>Information in samplig surveys from administrative sources</a:t>
            </a:r>
            <a:br>
              <a:rPr sz="2800"/>
            </a:b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Part 1 : </a:t>
            </a: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86200" y="50292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Honorio Bueno Maroto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National Statistics Institute - Spain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9999"/>
                </a:solidFill>
                <a:latin typeface="Arial"/>
              </a:rPr>
              <a:t>Madrid 24-25 november 2011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6040" y="2535120"/>
            <a:ext cx="5622840" cy="4094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4800600" cy="1301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014640" cy="403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1219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Linking process :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Detail of output confirmation by D3 (Human gorup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21496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5880" y="1981080"/>
            <a:ext cx="3048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+ 95% Automatically process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499400">
            <a:off x="6191280" y="513720"/>
            <a:ext cx="609480" cy="2324160"/>
          </a:xfrm>
          <a:custGeom>
            <a:avLst/>
            <a:gdLst>
              <a:gd name="textAreaLeft" fmla="*/ 81360 w 609480"/>
              <a:gd name="textAreaRight" fmla="*/ 528120 w 609480"/>
              <a:gd name="textAreaTop" fmla="*/ 406440 h 2324160"/>
              <a:gd name="textAreaBottom" fmla="*/ 1685160 h 23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Resul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643280" y="1268280"/>
          <a:ext cx="4114800" cy="37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268280"/>
                    <a:ext cx="411480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3520" y="4952880"/>
            <a:ext cx="396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Less processing tim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4952880"/>
            <a:ext cx="426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Higher correct link rat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48640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Good qual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Precision      =   0.989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Match error  =    0.011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Resul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10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 Narrow"/>
              </a:rPr>
              <a:t>Session 6: Information in samplig surveys from administrative sources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6699"/>
                </a:solidFill>
                <a:latin typeface="Arial Narrow"/>
              </a:rPr>
              <a:t>Part 1 : The 3-dimensional Spanish LFS record linkage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505320" y="35809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Honorio Bueno Maroto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Nacional Statistics Institute Spain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es-ES" sz="20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bueno@ine.e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096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0000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90512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Precedent experienc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Searching proces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Linking proces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3352680"/>
          <a:ext cx="453420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52680"/>
                    <a:ext cx="45342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14400" y="1371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D1 = Personal Data   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(Name, birth date, birth place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D2 = Residence Data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(County, City, Street, building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D3 = Human Group   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(Identity group: people surveyed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in the same househol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352680"/>
            <a:ext cx="2971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We have used different dimensions for searching persons in Municipal Register, and linking returned candidate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8287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Precedent experien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382840"/>
            <a:ext cx="6957720" cy="439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2952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arching in the Population Register have good outputs combining: D1: Personal data in ‘waterfall mode’ and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D2: Residence data in ‘paralell mode’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91320"/>
            <a:ext cx="3353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99% Return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perso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Search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371600"/>
            <a:ext cx="8762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The link process is made in few steps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1.  Calculate distances (Name, birth date, birth place, Residence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.  Select 1 candidate of each person  (best cantidate in every criteri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3.  Segmentation of distances and grouping by level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4.  Iterating process in each level. 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5.  Confirmation of doubts by D3 (Human group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6.  Manually searching of rejected person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33920" y="2104920"/>
            <a:ext cx="5410080" cy="26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320" y="2133720"/>
            <a:ext cx="373860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219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Linking process : Decision about the level of probability of be the person (D1 and D2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4797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2459160"/>
            <a:ext cx="5622840" cy="409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73240" y="1185840"/>
            <a:ext cx="4861080" cy="490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6040" y="2459160"/>
            <a:ext cx="5622840" cy="409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89080" y="1211400"/>
            <a:ext cx="4921200" cy="69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76212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Linking 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80880"/>
            <a:ext cx="7543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 Narrow"/>
              </a:rPr>
              <a:t>The 3-dimensional Spanish LFS Record Lin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50:10Z</dcterms:created>
  <dc:creator>Usuario</dc:creator>
  <dc:description/>
  <dc:language>en-US</dc:language>
  <cp:lastModifiedBy>pc</cp:lastModifiedBy>
  <cp:lastPrinted>2003-05-14T11:33:32Z</cp:lastPrinted>
  <dcterms:modified xsi:type="dcterms:W3CDTF">2011-11-24T18:11:48Z</dcterms:modified>
  <cp:revision>539</cp:revision>
  <dc:subject/>
  <dc:title>General</dc:title>
</cp:coreProperties>
</file>