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414648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96162B5-72A3-454A-92F7-8EF6F100840B}" type="datetime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899BD98-565D-41A3-9302-1CF34F53BC5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EAF2D71-7518-4606-BBF6-75596C2CBA5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14648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7FF2689-9BD3-4781-B8D2-FCA72B69BA17}" type="datetime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68280" y="730080"/>
            <a:ext cx="4778640" cy="35848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40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70C31B3-5F2D-47EE-AA40-78F2F9AA72C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14648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63D275C-E863-4C8B-BB90-EF249E24ED48}" type="datetime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68280" y="730080"/>
            <a:ext cx="4778640" cy="35848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40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A662F3D-70F2-4B73-B294-53E63014B4E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14648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3DE0E9E-D66D-4EB4-AF72-D3309CAE2575}" type="datetime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268280" y="730080"/>
            <a:ext cx="4778640" cy="35848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40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D0CAF97-EEE2-4152-B678-7AC6CEB1C1B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14648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E7EF618-4ACD-451B-ABF0-8B43BE1D5F7D}" type="datetime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68280" y="730080"/>
            <a:ext cx="4778640" cy="35848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40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F138EC2-A48A-406F-91ED-AB53601503D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14648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D7F1FE6-799B-4A4A-8AB0-D38E3DF44C75}" type="datetime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268280" y="730080"/>
            <a:ext cx="4778640" cy="35848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40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9CAB925-9DE8-4CF8-8BD2-F21B63479B9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14648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89647EF-F467-400B-921D-EF1372A41DEC}" type="datetime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68280" y="730080"/>
            <a:ext cx="4778640" cy="35848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40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3B14357-8AE3-45C3-B9D5-CD596219825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14648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6FCCA23-AD04-4241-BA0E-592BF0CB1AE4}" type="datetime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68280" y="730080"/>
            <a:ext cx="4778640" cy="35848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40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28CC112-95D8-462E-A543-867BB23902A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14648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CB04BF0-A430-42F0-95E9-3D6807C65FDA}" type="datetime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68280" y="730080"/>
            <a:ext cx="4778640" cy="35848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40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824B505-5047-4C6B-BAAC-EC8987D2D02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14648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4DACDB6-9F1B-46DB-A9A7-1CD36793167F}" type="datetime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68280" y="730080"/>
            <a:ext cx="4778640" cy="35848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40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1599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219320"/>
            <a:ext cx="464832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2094840"/>
            <a:ext cx="464832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1599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219320"/>
            <a:ext cx="226836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34600" y="1219320"/>
            <a:ext cx="226836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2094840"/>
            <a:ext cx="226836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34600" y="2094840"/>
            <a:ext cx="226836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1599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219320"/>
            <a:ext cx="149652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4240" y="1219320"/>
            <a:ext cx="149652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96000" y="1219320"/>
            <a:ext cx="149652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2094840"/>
            <a:ext cx="149652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4240" y="2094840"/>
            <a:ext cx="149652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96000" y="2094840"/>
            <a:ext cx="149652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7646-A388-4B9B-9FC9-B673A19FE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1599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752480" y="1219320"/>
            <a:ext cx="464832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7E4F-2D1F-4861-B4D8-C5192F4E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1599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52480" y="1219320"/>
            <a:ext cx="4648320" cy="16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5EE7-5547-4D91-9FA2-446D1B85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1599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219320"/>
            <a:ext cx="2268360" cy="16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34600" y="1219320"/>
            <a:ext cx="2268360" cy="16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3928-A49A-4E2F-83D0-95044D89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1599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44AE-542E-4B31-B7F0-024905EA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240" y="159984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5D34-1265-48EF-A489-790B4352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1599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52480" y="1219320"/>
            <a:ext cx="226836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34600" y="1219320"/>
            <a:ext cx="2268360" cy="16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752480" y="2094840"/>
            <a:ext cx="226836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35AD-F6E1-4C6D-99C9-8146FB57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1599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219320"/>
            <a:ext cx="464832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1599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52480" y="1219320"/>
            <a:ext cx="2268360" cy="16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134600" y="1219320"/>
            <a:ext cx="226836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134600" y="2094840"/>
            <a:ext cx="226836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F3FF-3631-4A45-A8AD-52A7B9F9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1599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52480" y="1219320"/>
            <a:ext cx="226836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134600" y="1219320"/>
            <a:ext cx="226836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752480" y="2094840"/>
            <a:ext cx="464832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56E5-AEF3-42F3-B0A4-BC35FC25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1599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52480" y="1219320"/>
            <a:ext cx="464832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752480" y="2094840"/>
            <a:ext cx="464832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73B5-8DDB-484C-A680-A8B573B0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1599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219320"/>
            <a:ext cx="226836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34600" y="1219320"/>
            <a:ext cx="226836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752480" y="2094840"/>
            <a:ext cx="226836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134600" y="2094840"/>
            <a:ext cx="226836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C28F-0ED5-4260-9332-B1720C1B4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240" y="1599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52480" y="1219320"/>
            <a:ext cx="149652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24240" y="1219320"/>
            <a:ext cx="149652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896000" y="1219320"/>
            <a:ext cx="149652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752480" y="2094840"/>
            <a:ext cx="149652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24240" y="2094840"/>
            <a:ext cx="149652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896000" y="2094840"/>
            <a:ext cx="149652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F6BF-A0C5-4563-A2C7-736FEE609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1599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219320"/>
            <a:ext cx="4648320" cy="16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1599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219320"/>
            <a:ext cx="2268360" cy="16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34600" y="1219320"/>
            <a:ext cx="2268360" cy="16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1599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159984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1599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219320"/>
            <a:ext cx="226836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34600" y="1219320"/>
            <a:ext cx="2268360" cy="16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2094840"/>
            <a:ext cx="226836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1599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219320"/>
            <a:ext cx="2268360" cy="16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34600" y="1219320"/>
            <a:ext cx="226836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34600" y="2094840"/>
            <a:ext cx="226836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1599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219320"/>
            <a:ext cx="226836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34600" y="1219320"/>
            <a:ext cx="226836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2094840"/>
            <a:ext cx="464832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5727600" y="828720"/>
            <a:ext cx="3411720" cy="60260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2743200" y="838080"/>
            <a:ext cx="5790960" cy="1203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03320" y="4483080"/>
          <a:ext cx="2349360" cy="237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3320" y="4483080"/>
                    <a:ext cx="234936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1371600" y="838080"/>
            <a:ext cx="7238880" cy="0"/>
          </a:xfrm>
          <a:prstGeom prst="line">
            <a:avLst/>
          </a:prstGeom>
          <a:ln cap="sq" w="1908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240" y="1599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">
            <a:hlinkClick r:id="" action="ppaction://hlinkshowjump?jump=firstslide"/>
          </p:cNvPr>
          <p:cNvSpPr/>
          <p:nvPr/>
        </p:nvSpPr>
        <p:spPr>
          <a:xfrm>
            <a:off x="6470640" y="6210360"/>
            <a:ext cx="267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152280" y="5486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151920" y="5791320"/>
            <a:ext cx="26672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8128-CBE6-4A66-A540-7847D1012594}" type="slidenum">
              <a:rPr b="0" lang="es-E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hbueno@ine.es" TargetMode="External"/><Relationship Id="rId2" Type="http://schemas.openxmlformats.org/officeDocument/2006/relationships/hyperlink" Target="mailto:hbueno@ine.es" TargetMode="External"/><Relationship Id="rId3" Type="http://schemas.openxmlformats.org/officeDocument/2006/relationships/hyperlink" Target="mailto:hbueno@ine.es" TargetMode="External"/><Relationship Id="rId4" Type="http://schemas.openxmlformats.org/officeDocument/2006/relationships/hyperlink" Target="mailto:hbueno@ine.es" TargetMode="External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 Narrow"/>
              </a:rPr>
              <a:t>Session 6:</a:t>
            </a:r>
            <a:br>
              <a:rPr sz="4000"/>
            </a:br>
            <a:r>
              <a:rPr b="1" lang="es-ES" sz="3600" spc="-1" strike="noStrike">
                <a:solidFill>
                  <a:srgbClr val="336699"/>
                </a:solidFill>
                <a:latin typeface="Arial Narrow"/>
              </a:rPr>
              <a:t>Obtaining statistical information in samplig surveys from administrative sources:</a:t>
            </a:r>
            <a:br>
              <a:rPr sz="3600"/>
            </a:br>
            <a:r>
              <a:rPr b="1" lang="es-ES" sz="3600" spc="-1" strike="noStrike">
                <a:solidFill>
                  <a:srgbClr val="336699"/>
                </a:solidFill>
                <a:latin typeface="Arial Narrow"/>
              </a:rPr>
              <a:t>case study of Spanish LFS ‘wages from the main job’</a:t>
            </a: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336699"/>
                </a:solidFill>
                <a:latin typeface="Arial Narrow"/>
              </a:rPr>
              <a:t>Part 1 : ANNEX</a:t>
            </a:r>
            <a:br>
              <a:rPr sz="3600"/>
            </a:br>
            <a:r>
              <a:rPr b="1" lang="es-ES" sz="3600" spc="-1" strike="noStrike">
                <a:solidFill>
                  <a:srgbClr val="336699"/>
                </a:solidFill>
                <a:latin typeface="Arial Narrow"/>
              </a:rPr>
              <a:t>The 3-dimensional LFS record linkage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886200" y="5029200"/>
            <a:ext cx="5029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9999"/>
                </a:solidFill>
                <a:latin typeface="Arial"/>
              </a:rPr>
              <a:t>Honorio Bueno Maroto</a:t>
            </a:r>
            <a:endParaRPr b="1" lang="en-US" sz="20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9999"/>
                </a:solidFill>
                <a:latin typeface="Arial"/>
              </a:rPr>
              <a:t>National Statistics Institute - Spain</a:t>
            </a:r>
            <a:endParaRPr b="1" lang="en-US" sz="20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9999"/>
                </a:solidFill>
                <a:latin typeface="Arial"/>
              </a:rPr>
              <a:t>Madrid 24-25 november 2011</a:t>
            </a:r>
            <a:endParaRPr b="1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90720" y="630360"/>
            <a:ext cx="7543800" cy="42912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3399"/>
                </a:solidFill>
                <a:latin typeface="Arial"/>
              </a:rPr>
              <a:t>The 3-dimensional LFS Record Linkage - Spain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286000" y="4343400"/>
            <a:ext cx="3619440" cy="1743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33520" y="1523880"/>
            <a:ext cx="8267760" cy="2514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630360"/>
            <a:ext cx="7543800" cy="42912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3399"/>
                </a:solidFill>
                <a:latin typeface="Arial"/>
              </a:rPr>
              <a:t>The 3-dimensional LFS Record Linkage - Spain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1228680"/>
            <a:ext cx="3352680" cy="53244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809880" y="1143000"/>
            <a:ext cx="51688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630360"/>
            <a:ext cx="7543800" cy="42912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3399"/>
                </a:solidFill>
                <a:latin typeface="Arial"/>
              </a:rPr>
              <a:t>The 3-dimensional LFS Record Linkage - Spain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403848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630360"/>
            <a:ext cx="7543800" cy="42912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3399"/>
                </a:solidFill>
                <a:latin typeface="Arial"/>
              </a:rPr>
              <a:t>The 3-dimensional LFS Record Linkage - Spain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5149800" cy="2386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905120" y="4191120"/>
            <a:ext cx="41907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630360"/>
            <a:ext cx="7543800" cy="42912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3399"/>
                </a:solidFill>
                <a:latin typeface="Arial"/>
              </a:rPr>
              <a:t>The 3-dimensional LFS Record Linkage - Spain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2756160" cy="1515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343400" y="1600200"/>
            <a:ext cx="3141720" cy="2174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1905120" y="4267080"/>
            <a:ext cx="523224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630360"/>
            <a:ext cx="7543800" cy="42912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3399"/>
                </a:solidFill>
                <a:latin typeface="Arial"/>
              </a:rPr>
              <a:t>The 3-dimensional LFS Record Linkage - Spain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09880" y="3251160"/>
            <a:ext cx="5105520" cy="33782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33520" y="3429000"/>
            <a:ext cx="3124080" cy="3067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2657520" y="1219320"/>
            <a:ext cx="2905200" cy="1990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99"/>
                </a:solidFill>
                <a:latin typeface="Arial Narrow"/>
              </a:rPr>
              <a:t>Tema X: Obtaining statistical information in samplig surveys from administrative sources:</a:t>
            </a:r>
            <a:br>
              <a:rPr sz="1600"/>
            </a:br>
            <a:r>
              <a:rPr b="1" lang="es-ES" sz="1600" spc="-1" strike="noStrike">
                <a:solidFill>
                  <a:srgbClr val="336699"/>
                </a:solidFill>
                <a:latin typeface="Arial Narrow"/>
              </a:rPr>
              <a:t>case study of Spanish LFS ‘wages from the main job’</a:t>
            </a:r>
            <a:br>
              <a:rPr sz="1600"/>
            </a:br>
            <a:br>
              <a:rPr sz="1600"/>
            </a:br>
            <a:r>
              <a:rPr b="1" lang="es-ES" sz="1600" spc="-1" strike="noStrike">
                <a:solidFill>
                  <a:srgbClr val="336699"/>
                </a:solidFill>
                <a:latin typeface="Arial Narrow"/>
              </a:rPr>
              <a:t>Part 1 : The 3-dimensional LFS record linkage</a:t>
            </a:r>
            <a:endParaRPr b="1" lang="en-US" sz="1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505320" y="3580920"/>
            <a:ext cx="50292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Arial"/>
              </a:rPr>
              <a:t>Honorio Bueno Maroto</a:t>
            </a:r>
            <a:endParaRPr b="1" lang="en-US" sz="20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Arial"/>
              </a:rPr>
              <a:t>Nacional Statistics Institute Spain</a:t>
            </a:r>
            <a:endParaRPr b="1" lang="en-US" sz="20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Arial"/>
              </a:rPr>
              <a:t>e-mail: </a:t>
            </a:r>
            <a:r>
              <a:rPr b="0" lang="es-ES" sz="2000" spc="-1" strike="noStrike" u="sng">
                <a:solidFill>
                  <a:srgbClr val="ff9966"/>
                </a:solidFill>
                <a:uFillTx/>
                <a:latin typeface="Arial"/>
                <a:hlinkClick r:id="rId1"/>
              </a:rPr>
              <a:t>hbueno</a:t>
            </a:r>
            <a:r>
              <a:rPr b="0" lang="es-ES" sz="2000" spc="-1" strike="noStrike" u="sng">
                <a:solidFill>
                  <a:srgbClr val="ff9966"/>
                </a:solidFill>
                <a:uFillTx/>
                <a:latin typeface="Arial"/>
                <a:hlinkClick r:id="rId2"/>
              </a:rPr>
              <a:t>@</a:t>
            </a:r>
            <a:r>
              <a:rPr b="0" lang="es-ES" sz="2000" spc="-1" strike="noStrike" u="sng">
                <a:solidFill>
                  <a:srgbClr val="ff9966"/>
                </a:solidFill>
                <a:uFillTx/>
                <a:latin typeface="Arial"/>
                <a:hlinkClick r:id="rId3"/>
              </a:rPr>
              <a:t>ine</a:t>
            </a:r>
            <a:r>
              <a:rPr b="0" lang="es-ES" sz="2000" spc="-1" strike="noStrike" u="sng">
                <a:solidFill>
                  <a:srgbClr val="ff9966"/>
                </a:solidFill>
                <a:uFillTx/>
                <a:latin typeface="Arial"/>
                <a:hlinkClick r:id="rId4"/>
              </a:rPr>
              <a:t>.es</a:t>
            </a:r>
            <a:endParaRPr b="1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2209680"/>
            <a:ext cx="693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cc0000"/>
                </a:solidFill>
                <a:latin typeface="Arial"/>
              </a:rPr>
              <a:t>Thanks for your atention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90720" y="630360"/>
            <a:ext cx="7543800" cy="42912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3399"/>
                </a:solidFill>
                <a:latin typeface="Arial"/>
              </a:rPr>
              <a:t>The 3-dimensional LFS Record Linkage - Spain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14400" y="1779480"/>
            <a:ext cx="7467480" cy="3367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90720" y="630360"/>
            <a:ext cx="7543800" cy="42912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3399"/>
                </a:solidFill>
                <a:latin typeface="Arial"/>
              </a:rPr>
              <a:t>The 3-dimensional LFS Record Linkage - Spain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620120" cy="4267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90720" y="630360"/>
            <a:ext cx="7543800" cy="42912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3399"/>
                </a:solidFill>
                <a:latin typeface="Arial"/>
              </a:rPr>
              <a:t>The 3-dimensional LFS Record Linkage - Spain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371600" y="1123920"/>
            <a:ext cx="5791320" cy="47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630360"/>
            <a:ext cx="7543800" cy="42912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3399"/>
                </a:solidFill>
                <a:latin typeface="Arial"/>
              </a:rPr>
              <a:t>The 3-dimensional LFS Record Linkage - Spain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0" y="1600200"/>
          <a:ext cx="8915400" cy="342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8915400" cy="34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90720" y="630360"/>
            <a:ext cx="7543800" cy="42912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3399"/>
                </a:solidFill>
                <a:latin typeface="Arial"/>
              </a:rPr>
              <a:t>The 3-dimensional LFS Record Linkage - Spain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3181320" cy="2244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334120" y="1143000"/>
            <a:ext cx="3259080" cy="2336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2666880" y="3697200"/>
            <a:ext cx="3810240" cy="28195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H="1" flipV="1">
            <a:off x="4419000" y="3200400"/>
            <a:ext cx="1066680" cy="533520"/>
          </a:xfrm>
          <a:custGeom>
            <a:avLst/>
            <a:gdLst>
              <a:gd name="textAreaLeft" fmla="*/ 355320 w 1066680"/>
              <a:gd name="textAreaRight" fmla="*/ 913320 w 1066680"/>
              <a:gd name="textAreaTop" fmla="*/ 307440 h 533520"/>
              <a:gd name="textAreaBottom" fmla="*/ 4572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429000" y="3124080"/>
            <a:ext cx="990720" cy="609840"/>
          </a:xfrm>
          <a:custGeom>
            <a:avLst/>
            <a:gdLst>
              <a:gd name="textAreaLeft" fmla="*/ 330120 w 990720"/>
              <a:gd name="textAreaRight" fmla="*/ 848520 w 990720"/>
              <a:gd name="textAreaTop" fmla="*/ 351720 h 609840"/>
              <a:gd name="textAreaBottom" fmla="*/ 52272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630360"/>
            <a:ext cx="7543800" cy="42912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3399"/>
                </a:solidFill>
                <a:latin typeface="Arial"/>
              </a:rPr>
              <a:t>The 3-dimensional LFS Record Linkage - Spain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2280" y="1301760"/>
            <a:ext cx="883944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90720" y="630360"/>
            <a:ext cx="7543800" cy="42912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3399"/>
                </a:solidFill>
                <a:latin typeface="Arial"/>
              </a:rPr>
              <a:t>The 3-dimensional LFS Record Linkage - Spain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86000" y="1295280"/>
            <a:ext cx="4309920" cy="12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90720" y="630360"/>
            <a:ext cx="7543800" cy="42912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3399"/>
                </a:solidFill>
                <a:latin typeface="Arial"/>
              </a:rPr>
              <a:t>The 3-dimensional LFS Record Linkage - Spain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143920" cy="2638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590920" y="4343400"/>
            <a:ext cx="3619440" cy="1743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2T12:50:10Z</dcterms:created>
  <dc:creator>Usuario</dc:creator>
  <dc:description/>
  <dc:language>en-US</dc:language>
  <cp:lastModifiedBy>INE</cp:lastModifiedBy>
  <cp:lastPrinted>2003-05-14T11:33:32Z</cp:lastPrinted>
  <dcterms:modified xsi:type="dcterms:W3CDTF">2011-11-22T12:56:16Z</dcterms:modified>
  <cp:revision>525</cp:revision>
  <dc:subject/>
  <dc:title>General</dc:title>
</cp:coreProperties>
</file>